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12.wmf" ContentType="image/x-wmf"/>
  <Override PartName="/ppt/media/image7.wmf" ContentType="image/x-wmf"/>
  <Override PartName="/ppt/media/image6.jpeg" ContentType="image/jpeg"/>
  <Override PartName="/ppt/media/image22.png" ContentType="image/png"/>
  <Override PartName="/ppt/media/image21.wmf" ContentType="image/x-wmf"/>
  <Override PartName="/ppt/media/image19.gif" ContentType="image/gif"/>
  <Override PartName="/ppt/media/image4.wmf" ContentType="image/x-wmf"/>
  <Override PartName="/ppt/media/image16.png" ContentType="image/png"/>
  <Override PartName="/ppt/media/image1.jpeg" ContentType="image/jpeg"/>
  <Override PartName="/ppt/media/image15.wmf" ContentType="image/x-wmf"/>
  <Override PartName="/ppt/media/image14.png" ContentType="image/png"/>
  <Override PartName="/ppt/media/image2.jpeg" ContentType="image/jpeg"/>
  <Override PartName="/ppt/media/image3.wmf" ContentType="image/x-wmf"/>
  <Override PartName="/ppt/media/image20.wmf" ContentType="image/x-wmf"/>
  <Override PartName="/ppt/media/image18.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39B9-EFCB-4193-80ED-E42666424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981080" y="495360"/>
            <a:ext cx="3029040" cy="2482920"/>
          </a:xfrm>
          <a:prstGeom prst="rect">
            <a:avLst/>
          </a:prstGeom>
          <a:ln w="0">
            <a:noFill/>
          </a:ln>
        </p:spPr>
      </p:sp>
      <p:sp>
        <p:nvSpPr>
          <p:cNvPr id="176"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read Scriptur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assume responsibility for personal spiritual choic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expanded influence in teaching children spiritual valu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become involved in the church’s mission</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 greater possibility of becoming financially stabl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creased employment choices and productivity</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he ability to provide financial support to the church</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more involvement in community development</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828800" y="419040"/>
            <a:ext cx="3409920" cy="2559240"/>
          </a:xfrm>
          <a:prstGeom prst="rect">
            <a:avLst/>
          </a:prstGeom>
          <a:ln w="0">
            <a:noFill/>
          </a:ln>
        </p:spPr>
      </p:sp>
      <p:sp>
        <p:nvSpPr>
          <p:cNvPr id="17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TACLES FOR WOMEN (OH-9)</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Some governments do not yet feel that education is of paramount importance for women.</a:t>
            </a:r>
            <a:r>
              <a:rPr b="0" lang="en-US" sz="1200" spc="-1" strike="noStrike">
                <a:solidFill>
                  <a:srgbClr val="000000"/>
                </a:solidFill>
                <a:latin typeface="Times New Roman"/>
              </a:rPr>
              <a:t> As a result, little has been done to fund or promote adult literacy programs for women. Before these governments promote female literacy, it will require pressure of people committed to large-scale social chan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Many women have a difficulty finding the time and energy for schooling even if given the opportunity.</a:t>
            </a:r>
            <a:r>
              <a:rPr b="0" lang="en-US" sz="1200" spc="-1" strike="noStrike">
                <a:solidFill>
                  <a:srgbClr val="000000"/>
                </a:solidFill>
                <a:latin typeface="Times New Roman"/>
              </a:rPr>
              <a:t> They also lack concentration because they must bring their young children with them to class. For this reason, when planning a literacy program, it might be beneficial to also plan a nursery or separate program for the children. Many women lack the support of the men in the families; illiterate fathers or husbands may be unwilling to allow wives and daughters to participate.  However, men often become more supportive when they discover that reading increases the woman’s earning power. The lack of relevant reading material in the native tongue is often a discouragement to women too, especially for follow-up and enrichment materials. Many women are also embarrassed by their lack of education, so a program must be very non-threatening and supportive, respecting these women for what they do know and can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The literacy worker will have to plan the program so that the needs of the women are taken into consideration. </a:t>
            </a:r>
            <a:r>
              <a:rPr b="0" lang="en-US" sz="1200" spc="-1" strike="noStrike">
                <a:solidFill>
                  <a:srgbClr val="000000"/>
                </a:solidFill>
                <a:latin typeface="Times New Roman"/>
              </a:rPr>
              <a:t>For instance, a program could take place around where the women wash clothes. It might take place while they are doing sewing or some hand work in connection with their preparing food. The classes may have to be of shorter duration but more sessions. Workloads may be heavier at certain times of the year, such as planting or harvesting seas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obstacles, but none that cannot be overcome if a program is well-planned and design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y who teach others wil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ke the stars in the heavens, shine forev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r they never k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ere their influence will sto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t>
            </a:r>
            <a:r>
              <a:rPr b="0" i="1" lang="en-US" sz="1200" spc="-1" strike="noStrike">
                <a:solidFill>
                  <a:srgbClr val="000000"/>
                </a:solidFill>
                <a:latin typeface="Times New Roman"/>
              </a:rPr>
              <a:t>Anonymou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581280" y="190440"/>
            <a:ext cx="2743200" cy="2286000"/>
          </a:xfrm>
          <a:prstGeom prst="rect">
            <a:avLst/>
          </a:prstGeom>
          <a:ln w="0">
            <a:noFill/>
          </a:ln>
        </p:spPr>
      </p:sp>
      <p:sp>
        <p:nvSpPr>
          <p:cNvPr id="180" name="PlaceHolder 2"/>
          <p:cNvSpPr>
            <a:spLocks noGrp="1"/>
          </p:cNvSpPr>
          <p:nvPr>
            <p:ph type="body"/>
          </p:nvPr>
        </p:nvSpPr>
        <p:spPr>
          <a:xfrm>
            <a:off x="609120" y="2324160"/>
            <a:ext cx="5791320" cy="640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LITERACY? (OH-1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 person was considered literate if he or she could sign their name. Then in 1951, UNESCO said that a person was literate if they could, with understanding, both read and write a short, simple statement on his/her everyday life. In recent years, the United States military began requiring a high school diploma or GED (general equivalency diploma). Now most literacy organizations define literacy as being able to use printed and written information to function in society to achieve one’s goals and develop one’s knowledge and potential. In various parts of the world, different levels of reading and writing are used to define literacy, but we can all agree that if a person cannot read or write well enough to do what they want to do, they need more literacy. </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and illiteracy are </a:t>
            </a:r>
            <a:r>
              <a:rPr b="0" i="1" lang="en-US" sz="1200" spc="-1" strike="noStrike">
                <a:solidFill>
                  <a:srgbClr val="000000"/>
                </a:solidFill>
                <a:latin typeface="Times New Roman"/>
              </a:rPr>
              <a:t>not</a:t>
            </a:r>
            <a:r>
              <a:rPr b="0" lang="en-US" sz="1200" spc="-1" strike="noStrike">
                <a:solidFill>
                  <a:srgbClr val="000000"/>
                </a:solidFill>
                <a:latin typeface="Times New Roman"/>
              </a:rPr>
              <a:t> opposite poles, but a continuum. In order to be truly literate, a person needs to be able to function at whatever goal level that individual has set. For instance, in a study of a literacy program in Tanzania, it was discovered that the majority of the learners were middle-aged women from the poorer groups of society. Two-thirds had attended school, most for more than four years. But they were unable to meet their goals, so needed more literac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i="1" lang="en-US" sz="1200" spc="-1" strike="noStrike">
                <a:solidFill>
                  <a:srgbClr val="000000"/>
                </a:solidFill>
                <a:latin typeface="Times New Roman"/>
              </a:rPr>
              <a:t>Adult Literacy Programs </a:t>
            </a:r>
            <a:r>
              <a:rPr b="0" lang="en-US" sz="1200" spc="-1" strike="noStrike">
                <a:solidFill>
                  <a:srgbClr val="000000"/>
                </a:solidFill>
                <a:latin typeface="Times New Roman"/>
              </a:rPr>
              <a:t>(1995), Comings, Smith and Shrestha s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el of literacy skill that would be considered severely limited in rural Lesotho is quite different from that in urban America; in fact, the only useful definition of literacy is one that is set within the context of the life of an individual. In any context, however, the inability to read a simple text, such as those used in the first grade of primary school, should be considered complete illiteracy, and UNESCO’s estimate of 950 million is made up of people who fit this definition of illiteracy. If literacy is defined more broadly as a proficiency in reading, writing and math sufficient to compete for good jobs and participate fully in social and political life, the number of adults, worldwide, who could benefit from basic skills training might be as high as 2 billion. If the definition includes workers who could earn a higher wage if they improve their basic skills, the total might be 3 billion. Because approximately 100 million of the world’s primary school age children are not attending school and many that do attend drop out in the first two years, the world’s illiterate population will not decrease dramatically over the next ten years without a much greater adult educational effor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successful a literacy program should not be limited to only reading and writing. Literacy training should take a holistic approach, including speaking, listening, reading, and wri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 literacy requires some of the same skills as reading and writing but requires its own separate skills as well. Students in a basic literacy program can be taught the number symbols and helped to understand them by counting objects and marks on pap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809880" y="419040"/>
            <a:ext cx="2495520" cy="2102040"/>
          </a:xfrm>
          <a:prstGeom prst="rect">
            <a:avLst/>
          </a:prstGeom>
          <a:ln w="0">
            <a:noFill/>
          </a:ln>
        </p:spPr>
      </p:sp>
      <p:sp>
        <p:nvSpPr>
          <p:cNvPr id="182" name="PlaceHolder 2"/>
          <p:cNvSpPr>
            <a:spLocks noGrp="1"/>
          </p:cNvSpPr>
          <p:nvPr>
            <p:ph type="body"/>
          </p:nvPr>
        </p:nvSpPr>
        <p:spPr>
          <a:xfrm>
            <a:off x="533520" y="2171520"/>
            <a:ext cx="58672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NEEDS IT?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groups you can s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iterates—adults who cannot function at a standard level of reading or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need to improve their skill level to be able to get a better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language illiterates—they cannot read or write in the national language of government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terates—small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of poverty or where parents are not literate, very often children are educationally impoverished and some special help to them can help make sure they become literate. Another need area is for tutoring and helping children who are struggling with homework and keeping up with their classes. Local schools and teachers can help plan programs for these two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are illiterate, not because they never had the opportunity for school, but for other reasons such as hearing problems, vision problems, learning problems such as dyslexia, context deficiency, or being unable to work in a group situation. Others had to drop out for health reasons, to go to work to support the family, lacked motivation, were not ready when they began school, lacked role models, did not try and received social passes, or came from migrant families and moved too often to receive a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there is a national language and a number of local languages. For many, the question is what language should be used for the literacy program. Learning in a local language is easier for the student because the vocabulary is more familiar. It reinforces culture, history, identity, and feeling of self-worth. Often reading and literacy materials in the local language are limited and will not benefit the student as much in commerce or employment. A national language can be a binding force that contributes to building national 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ning literacy programs, it might be well to consider holding literacy programs in the prison system, as a very high percentage of prisoners are illiterate. One of the reasons many turn to crime is because of the failure cycle from illiteracy and the inability to hold a 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reas, especially in urban centers in developed countries, GED training programs may be more necessary than basic literac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886200" y="343080"/>
            <a:ext cx="2114640" cy="1600200"/>
          </a:xfrm>
          <a:prstGeom prst="rect">
            <a:avLst/>
          </a:prstGeom>
          <a:ln w="0">
            <a:noFill/>
          </a:ln>
        </p:spPr>
      </p:sp>
      <p:sp>
        <p:nvSpPr>
          <p:cNvPr id="184" name="PlaceHolder 2"/>
          <p:cNvSpPr>
            <a:spLocks noGrp="1"/>
          </p:cNvSpPr>
          <p:nvPr>
            <p:ph type="body"/>
          </p:nvPr>
        </p:nvSpPr>
        <p:spPr>
          <a:xfrm>
            <a:off x="457200" y="647280"/>
            <a:ext cx="5943600" cy="81536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DULTS LEARN (OH-1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principle factors in adult educatio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ediac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ce</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learning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dults feel embarrassed by the fact that they cannot read. If they are treated with condescension or like a child, they quickly drop out. The teacher must understand and model the fact that even though the illiterate adult may not be able to read, he or she is a very intelligent person who has other expertise and knowledge that even the teacher may lac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can be shown in many ways. One example would be for the teacher not to say “I am helping you learn to read,” but that “I am helping you to </a:t>
            </a:r>
            <a:r>
              <a:rPr b="0" i="1" lang="en-US" sz="1200" spc="-1" strike="noStrike">
                <a:solidFill>
                  <a:srgbClr val="000000"/>
                </a:solidFill>
                <a:latin typeface="Times New Roman"/>
              </a:rPr>
              <a:t>improve </a:t>
            </a:r>
            <a:r>
              <a:rPr b="0" lang="en-US" sz="1200" spc="-1" strike="noStrike">
                <a:solidFill>
                  <a:srgbClr val="000000"/>
                </a:solidFill>
                <a:latin typeface="Times New Roman"/>
              </a:rPr>
              <a:t>your reading skil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adults is very different from teaching children. For this reason, professional teachers are usually no better prepared to teach adult literacy than are others who receive literacy training. In poor societies, studies show that local, poor, (not those from the middle class) female teachers have been the most successful at encouraging participation in reading program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ult comes to learn on her own free will. Many times these adults feel like failures—most of the world can read and they cannot. Perhaps they never had the opportunity, or this individual may have met with any number of roadblocks that have prevented her from learning. So encouraging, motivating, and building self-confidence will be an important part of the tutor’s work. The teacher will want to help the student succeed right from the beginning, and in each and every lesson. The key to teaching someone to read is not so much in the techniques or the materials, but in an attitude of mutual cooperation and support between the tutor and the new rea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t is important to remember that adults who cannot read are not illiterate because they are stupid. Usually, adults who cannot read are very intelligent—they have to be very smart to be able to get along in a reading world. They have to hear and remember everything; they cannot write themselves notes or look up information they may forg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ant to learn quickly. They have full responsibilities already, often with full- time work and family, so taking time for class and homework will require dedication and commit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ors are coming to realize that we all learn more by doing than simply by hearing. As much as possible in a literacy program, have the student learning to read things </a:t>
            </a:r>
            <a:r>
              <a:rPr b="0" i="1" lang="en-US" sz="1200" spc="-1" strike="noStrike">
                <a:solidFill>
                  <a:srgbClr val="000000"/>
                </a:solidFill>
                <a:latin typeface="Times New Roman"/>
              </a:rPr>
              <a:t>she</a:t>
            </a:r>
            <a:r>
              <a:rPr b="0" lang="en-US" sz="1200" spc="-1" strike="noStrike">
                <a:solidFill>
                  <a:srgbClr val="000000"/>
                </a:solidFill>
                <a:latin typeface="Times New Roman"/>
              </a:rPr>
              <a:t> wants to read. Then have her actively involved in the class setting putting to use the things she has learned on material she has interest in. If you are teaching in a group setting, having students help each other will enhance their retention. Discussing what they have read helps and follow-up writing assignments enrich their learning further. Addressing topics of community or personal concern make this even more meaningful. You can also ask the students to illustrate material read, or have them read and demonstrate what they read about. For instance, women might demonstrate making a recipe they are learning to rea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3880" y="495360"/>
            <a:ext cx="3714840" cy="2786040"/>
          </a:xfrm>
          <a:prstGeom prst="rect">
            <a:avLst/>
          </a:prstGeom>
          <a:ln w="0">
            <a:noFill/>
          </a:ln>
        </p:spPr>
      </p:sp>
      <p:sp>
        <p:nvSpPr>
          <p:cNvPr id="186" name="PlaceHolder 2"/>
          <p:cNvSpPr>
            <a:spLocks noGrp="1"/>
          </p:cNvSpPr>
          <p:nvPr>
            <p:ph type="body"/>
          </p:nvPr>
        </p:nvSpPr>
        <p:spPr>
          <a:xfrm>
            <a:off x="685800" y="3543480"/>
            <a:ext cx="5486400" cy="484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hows instructional strategies and the average retention rate for various types of teaching: </a:t>
            </a:r>
            <a:r>
              <a:rPr b="1" lang="en-US" sz="1200" spc="-1" strike="noStrike">
                <a:solidFill>
                  <a:srgbClr val="000000"/>
                </a:solidFill>
                <a:latin typeface="Times New Roman"/>
              </a:rPr>
              <a:t>(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676520" y="495360"/>
            <a:ext cx="3562200" cy="2671560"/>
          </a:xfrm>
          <a:prstGeom prst="rect">
            <a:avLst/>
          </a:prstGeom>
          <a:ln w="0">
            <a:noFill/>
          </a:ln>
        </p:spPr>
      </p:sp>
      <p:sp>
        <p:nvSpPr>
          <p:cNvPr id="18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guidelines for teachers that will help with adult learners: </a:t>
            </a:r>
            <a:r>
              <a:rPr b="1" lang="en-US" sz="1200" spc="-1" strike="noStrike">
                <a:solidFill>
                  <a:srgbClr val="000000"/>
                </a:solidFill>
                <a:latin typeface="Times New Roman"/>
              </a:rPr>
              <a:t>(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softly. Be courteous and respectfu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encourage your student. Do not forget to praise her often for her good effort. Never become angry at her mis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humble, showing honor to your student. Treat her as an </a:t>
            </a:r>
            <a:r>
              <a:rPr b="0" i="1" lang="en-US" sz="1200" spc="-1" strike="noStrike">
                <a:solidFill>
                  <a:srgbClr val="000000"/>
                </a:solidFill>
                <a:latin typeface="Times New Roman"/>
              </a:rPr>
              <a:t>equal; </a:t>
            </a:r>
            <a:r>
              <a:rPr b="0" lang="en-US" sz="1200" spc="-1" strike="noStrike">
                <a:solidFill>
                  <a:srgbClr val="000000"/>
                </a:solidFill>
                <a:latin typeface="Times New Roman"/>
              </a:rPr>
              <a:t>never appear sup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laugh at mistakes or allow others to laugh. Don’t make the student work too hard, nor let her think she is learning too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your student and tell her you are sure she can learn quickly. Make the study as happy and interesting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unable to teach, either find a substitute teacher or plan with your student well in advance to teach her at anoth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beside your student. Try to make her feel you are her equal, not superior. Try to be more like Jesus to her than anyone she has ever me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course, it is good to tell the students that they are expected to teach at least one other person to read as soon as they have learned to read. This will help the student realize that they are expected to succeed and that they are a worthy and capable person. It will also help to extend the program beyond the initial out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u="sng">
                <a:solidFill>
                  <a:srgbClr val="000000"/>
                </a:solidFill>
                <a:uFillTx/>
                <a:latin typeface="Times New Roman"/>
              </a:rPr>
              <a:t> Adapted from </a:t>
            </a:r>
            <a:r>
              <a:rPr b="0" i="1" lang="en-US" sz="1200" spc="-1" strike="noStrike">
                <a:solidFill>
                  <a:srgbClr val="000000"/>
                </a:solidFill>
                <a:latin typeface="Times New Roman"/>
              </a:rPr>
              <a:t>Teaching Guide</a:t>
            </a:r>
            <a:r>
              <a:rPr b="0" lang="en-U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666880" y="114480"/>
            <a:ext cx="2648160" cy="1904760"/>
          </a:xfrm>
          <a:prstGeom prst="rect">
            <a:avLst/>
          </a:prstGeom>
          <a:ln w="0">
            <a:noFill/>
          </a:ln>
        </p:spPr>
      </p:sp>
      <p:sp>
        <p:nvSpPr>
          <p:cNvPr id="190" name="PlaceHolder 2"/>
          <p:cNvSpPr>
            <a:spLocks noGrp="1"/>
          </p:cNvSpPr>
          <p:nvPr>
            <p:ph type="body"/>
          </p:nvPr>
        </p:nvSpPr>
        <p:spPr>
          <a:xfrm>
            <a:off x="380520" y="1790640"/>
            <a:ext cx="6172200" cy="64771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EGIN (OH-15)</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it is important to understand what is required to have a successful program. Don’t become discouraged when you are already doing as well as might be expected. Plan for 100% success but don’t quit if you do not get it, because a successful literacy program has been defined by some as a program where about 50% of the participants acquire a level of literacy skill sufficient to use and retain over time. Because of the nature of adult education, some of the important elements in such a program ar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ing and duration of instruction, Instructional materials, Teacher recruitment and training, Participant motivation, Supervision and monitoring, Connection to other development activities, Government/NGO (non-governmental organization) collaboration, Post-literacy activiti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average adult, 200 to 300 hours of instruction are needed to acquire a level of skill sufficient to use and retain over time. Some of this will depend also on whether it is one-on-one with a tutor or in a class setting.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there are two types of literacy programs. In the first, a tutor meets privately with an individual student at a time and place mutually agreed upon by the two of them. The class work centers around that one student’s interests and abilities. This type is probably most common in places like the United States, where the illiterates are widely scattered among the population.  The second type is a classroom or small group setting in a school, church, or even the open air. Everyone in the group works on approximately the same type of material. To be most successful, most experts say the group size should be limited to 8-12 student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es one do to present enough hours and material for the student to attain a level of success? You must begin with research! It is imperative that you know exactly who your students will be, how many are illiterate, and whether they are totally illiterate or functionally illiterat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discover why these individuals are illiterate. What are the obstacles to changing the situation? Are there those who prefer that they remain illiterate? What resources are available to help overcome these obstacl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know the level of interest in your church. Have they been involved in literacy in the past? What were the results? Does the local church actively use the Bible and encourage its reading? What impact have other local religions had on literacy? Does your church understand the problem illiteracy causes for church and community?</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need to research available reading material. What material is available from literacy groups or the government? How much material is available to read as supplementary or follow-up? Are the materials easy and inexpensive enough to acquire? Are the Scriptures, or portions, readily available in the local langua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writing the reading material that you might use? What are they writing about? What perspective or ideology are they coming from? Does the material address local needs and can the local people identify with the mate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52480" y="343080"/>
            <a:ext cx="2800440" cy="2100240"/>
          </a:xfrm>
          <a:prstGeom prst="rect">
            <a:avLst/>
          </a:prstGeom>
          <a:ln w="0">
            <a:noFill/>
          </a:ln>
        </p:spPr>
      </p:sp>
      <p:sp>
        <p:nvSpPr>
          <p:cNvPr id="192" name="PlaceHolder 2"/>
          <p:cNvSpPr>
            <a:spLocks noGrp="1"/>
          </p:cNvSpPr>
          <p:nvPr>
            <p:ph type="body"/>
          </p:nvPr>
        </p:nvSpPr>
        <p:spPr>
          <a:xfrm>
            <a:off x="609120" y="2476080"/>
            <a:ext cx="5867640" cy="61722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nswers to such questions will help you know what type of program you need to design. When you have done this, begin the actual plann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cide what the language of instruction will be. Should it be the local, indigenous language, the language of business and commerce, or a second language such as Englis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nd literacy materials. These can be obtained from literacy organizations, governments, or university and college systems. Because each area of the world is different, you must do this research on your own. Talk to your ADRA director—have they done literacy in that language? Contact your ministry of education or other non-governmental organizations, especially those involved in development or education. They may have money, materials, or advi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vowel sounds of a language are regular (they are not in English) it is fairly easy to begin by teaching the vowel sounds and then introduce consonants as the student indicates what words she wants to learn to read. You might not even need a book for such a program. You can use all types of materials that are readily available for free: newspapers, government health and educational pamphlets, employment application forms, advertising. You can also use material such as simple and familiar songs and choruses. The repetition in them is excellent. (See “Teaching Without a Book,” page 19.)</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cruit tutors. These will probably be women from your local Women’s Ministries group, or you may invite others who are interested to join you in your literacy proj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ind someone to train your tutors. The same sources who supply literacy materials are good possibilities. Talk again to the local university adult education department and your ADRA director for assistan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nd some other areas of the world, literacy tutor training can be obtained by contacting your local library. If you have a number of tutors willing to be trained, the library or the literacy group working with them may be willing to come to your church or school and do the training at a time convenient to your group. Check in the yellow or white pages under “literacy” or contact Laubach Literacy International or Literacy Volunteers of America (see listings in Appendix 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a city newspaper:“Illiterate? Write today for hel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cide how you will recruit your students. Design an advertising program. Remember, they cannot read advertising! Investigate how people in the society in which the illiterates live usually get information. Use every avenue you can discov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228240" y="266400"/>
            <a:ext cx="6248520" cy="8458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cide how you will test and place your students. If the literacy material you chose has a placement test, use it. If not, you can use interviews or develop a simple test yoursel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you might ask to help place students would b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ngs are you comfortable reading now? Do you read or write at work? At home? With your childr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hoose and try a few words or sentences from this literacy book (a basic level book).</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stuck on a word when reading, what do you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cannot read, ask) Have you ever tried to learn to read and write before? (If they have,) What did you like or dislike about the experience? Why did you stop? How would you do things differently 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interested in learning to read and write (or improving your skills)? Why? What makes learning to read and write difficul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time would you be able to spend each week in cla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 sound out words in a sentence, do you usually understand what you have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r hobbies or special interes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 good a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like to learn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Decide if you will charge the students anything. Some are poor and a fee will discourage them. Others are more likely to attend faithfully if they have something invested. You must research which will be best for those you are trying to rea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cide where you will have class. It must be safe and convenient for the students or they will not c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ecide when you will meet and for how long. It is important, again, that the time be convenient for the students. How will the time slot you pick affect the rest of the student’s family? If the wife is unable to prepare dinner or care for the children, she will not be allowed to attend. You may want to begin with a three or six month commitment and then reassess decisions ma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lan for registration and record keeping: who will do it and h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Budget. How much will the program cost and where is the money going to come fr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Begi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international literacy programs develop their own materials for specific indigenous languages. This is costly and usually takes about three years. Therefore, we recommend that if possible you use materials someone else has developed. If you must develop materials, you will need to apply for a government or NGO (non-governmental organization) grant or a program under the sponsorship of someone like Literacy and Evangelism Internation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such as this are often looking for local people with whom they can work in developing and running a program. They may supply the money, or most of it, and the expertise. The local group will provide the local people to give local information and language knowledge, to receive the training, and to carry out the progra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ajor cost for most programs is teacher salary. If you use Women’s Ministries volunteers, it cuts down the total cost of the program greatly. Some governments and NGO’s will pay teacher salaries, but if you are working with them, this must be part of the proposal and pl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money is available. The bad news is that writing a proposal takes some time and effort. Even if you do not want to apply for money, going over a proposal will help you to think of the various parts of a program that should be thought out anyw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752480" y="495360"/>
            <a:ext cx="3029040" cy="2271600"/>
          </a:xfrm>
          <a:prstGeom prst="rect">
            <a:avLst/>
          </a:prstGeom>
          <a:ln w="0">
            <a:noFill/>
          </a:ln>
        </p:spPr>
      </p:sp>
      <p:sp>
        <p:nvSpPr>
          <p:cNvPr id="160"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BEGIN A LITERACY PROGRAM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to be congratulated. You want to do something that can make a difference and fill a great need. But you probably also have a lot of questions about such a program. How does one begin and what materials do you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gram is to help you begin. It will not answer all the questions there are about every place in this world where there are literacy needs, but it will help you to begin to find what questions to ask, and help you find some answers.  The purpose is to help you understand enough to get the planning of a program sta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e thing that is not taught here is the actual language instruction. There is nothing about which letter of the alphabet to begin with and what to teach in each lesson. The reason: different languages necessitate appropriate adaptation. Some languages, of course, do not have a Roman or Latin alphabet at all, so teaching methods will be diffe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d bless you as you begin designing and planning a literacy progra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676520" y="495360"/>
            <a:ext cx="3409920" cy="2557440"/>
          </a:xfrm>
          <a:prstGeom prst="rect">
            <a:avLst/>
          </a:prstGeom>
          <a:ln w="0">
            <a:noFill/>
          </a:ln>
        </p:spPr>
      </p:sp>
      <p:sp>
        <p:nvSpPr>
          <p:cNvPr id="195"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HE TUTOR (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previously, it is impossible to fully prepare a tutor in a seminar like this, but a few suggestions and ideas for the tutor can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Once again, your relationship with your student is going to be the most important factor in your teaching.</a:t>
            </a:r>
            <a:r>
              <a:rPr b="0" lang="en-US" sz="1200" spc="-1" strike="noStrike">
                <a:solidFill>
                  <a:srgbClr val="000000"/>
                </a:solidFill>
                <a:latin typeface="Times New Roman"/>
              </a:rPr>
              <a:t> Even if you stumble with your words, forget a small point, or don’t do things in the exact order, your student will overlook and forgive if she or he knows you respect and care for them, if you have a good attitude toward them, and are doing your best to make their lives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According to one study of literacy programs, the most important teacher behavior is simply showing up for class.</a:t>
            </a:r>
            <a:r>
              <a:rPr b="0" lang="en-US" sz="1200" spc="-1" strike="noStrike">
                <a:solidFill>
                  <a:srgbClr val="000000"/>
                </a:solidFill>
                <a:latin typeface="Times New Roman"/>
              </a:rPr>
              <a:t> If materials are adequate and the teacher shows up for class on a regular basis and makes some attempt to teach, a completion rate of around 50% can be expected.  Children will continue to attend class even if the teacher is sporadic, but adults will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f the attendance is not what is expected or the drop-out rate high or early, it would be wise to spend some time or even money to find out what the reasons are and do what can be done to adjust the program to overcome the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a:t>
            </a:r>
            <a:r>
              <a:rPr b="1" lang="en-US" sz="1200" spc="-1" strike="noStrike">
                <a:solidFill>
                  <a:srgbClr val="000000"/>
                </a:solidFill>
                <a:latin typeface="Times New Roman"/>
              </a:rPr>
              <a:t>For the most part, a program that teaches a whole language approach is the most successful</a:t>
            </a:r>
            <a:r>
              <a:rPr b="0" lang="en-US" sz="1200" spc="-1" strike="noStrike">
                <a:solidFill>
                  <a:srgbClr val="000000"/>
                </a:solidFill>
                <a:latin typeface="Times New Roman"/>
              </a:rPr>
              <a:t>—it uses all three skills: phonetics, sight vocabulary, and context, and should involve speaking, listening, reading, and writing. Group participation in class in this way is important, especially for women who frequently have never spoken in front of a group before, or had anyone really listen to what they have to say. It also makes the learning more fun and helps build a stronger network among the wome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209680" y="419040"/>
            <a:ext cx="2667240" cy="2000160"/>
          </a:xfrm>
          <a:prstGeom prst="rect">
            <a:avLst/>
          </a:prstGeom>
          <a:ln w="0">
            <a:noFill/>
          </a:ln>
        </p:spPr>
      </p:sp>
      <p:sp>
        <p:nvSpPr>
          <p:cNvPr id="197" name="PlaceHolder 2"/>
          <p:cNvSpPr>
            <a:spLocks noGrp="1"/>
          </p:cNvSpPr>
          <p:nvPr>
            <p:ph type="body"/>
          </p:nvPr>
        </p:nvSpPr>
        <p:spPr>
          <a:xfrm>
            <a:off x="457200" y="2400120"/>
            <a:ext cx="5943600" cy="6172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t>
            </a:r>
            <a:r>
              <a:rPr b="1" lang="en-US" sz="1200" spc="-1" strike="noStrike">
                <a:solidFill>
                  <a:srgbClr val="000000"/>
                </a:solidFill>
                <a:latin typeface="Times New Roman"/>
              </a:rPr>
              <a:t>For most adults, learning to read and write takes a lot of time and effort, and after a few weeks of study, motivation can wane.</a:t>
            </a:r>
            <a:r>
              <a:rPr b="0" lang="en-US" sz="1200" spc="-1" strike="noStrike">
                <a:solidFill>
                  <a:srgbClr val="000000"/>
                </a:solidFill>
                <a:latin typeface="Times New Roman"/>
              </a:rPr>
              <a:t> For this reason, linking education to real problems and solutions, finding out why and what the student wants to read, can provide the additional motivation needed to stay with the program, and will then, of course, improve the quality of the participant’s lif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  </a:t>
            </a:r>
            <a:r>
              <a:rPr b="1" lang="en-US" sz="1200" spc="-1" strike="noStrike">
                <a:solidFill>
                  <a:srgbClr val="000000"/>
                </a:solidFill>
                <a:latin typeface="Times New Roman"/>
              </a:rPr>
              <a:t>Before a literacy program begins, or in the first session with a student, it is important to talk about commitment.</a:t>
            </a:r>
            <a:r>
              <a:rPr b="0" lang="en-US" sz="1200" spc="-1" strike="noStrike">
                <a:solidFill>
                  <a:srgbClr val="000000"/>
                </a:solidFill>
                <a:latin typeface="Times New Roman"/>
              </a:rPr>
              <a:t> Discuss with the individual or group what the ground rules are regarding attendance, homework, effort, etc. You also need to commit to them that you will do your best to help them achieve their goals, will let them know if you can’t be there, will respect their needs, etc. It is good if you can have them commit to a minimum of three months of classes, and then set new go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a:t>
            </a:r>
            <a:r>
              <a:rPr b="1" lang="en-US" sz="1200" spc="-1" strike="noStrike">
                <a:solidFill>
                  <a:srgbClr val="000000"/>
                </a:solidFill>
                <a:latin typeface="Times New Roman"/>
              </a:rPr>
              <a:t>A good literacy curriculum puts as much stress on comprehension as it does on oral reading.</a:t>
            </a:r>
            <a:r>
              <a:rPr b="0" lang="en-US" sz="1200" spc="-1" strike="noStrike">
                <a:solidFill>
                  <a:srgbClr val="000000"/>
                </a:solidFill>
                <a:latin typeface="Times New Roman"/>
              </a:rPr>
              <a:t> Participants must be encouraged to discuss the words, sentences, and stories. The teacher must continually question students about what they are reading, and the student should be encouraged to write in response to the discussions and read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a:t>
            </a:r>
            <a:r>
              <a:rPr b="1" lang="en-US" sz="1200" spc="-1" strike="noStrike">
                <a:solidFill>
                  <a:srgbClr val="000000"/>
                </a:solidFill>
                <a:latin typeface="Times New Roman"/>
              </a:rPr>
              <a:t>If possible, have nametags for each person, the teacher included, on the first day.</a:t>
            </a:r>
            <a:r>
              <a:rPr b="0" lang="en-US" sz="1200" spc="-1" strike="noStrike">
                <a:solidFill>
                  <a:srgbClr val="000000"/>
                </a:solidFill>
                <a:latin typeface="Times New Roman"/>
              </a:rPr>
              <a:t>  Have their names written on the tags in large manuscript letters. These names can be the basis for the first lesson and help everyone get to know each other and feel comfortab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1" lang="en-US" sz="1200" spc="-1" strike="noStrike">
                <a:solidFill>
                  <a:srgbClr val="000000"/>
                </a:solidFill>
                <a:latin typeface="Times New Roman"/>
              </a:rPr>
              <a:t>Many adults in Third World countries come to class never having held a pencil.</a:t>
            </a:r>
            <a:r>
              <a:rPr b="0" lang="en-US" sz="1200" spc="-1" strike="noStrike">
                <a:solidFill>
                  <a:srgbClr val="000000"/>
                </a:solidFill>
                <a:latin typeface="Times New Roman"/>
              </a:rPr>
              <a:t> For them, writing should begin with writing simple shapes such as X, O, an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a:t>
            </a:r>
            <a:r>
              <a:rPr b="1" lang="en-US" sz="1200" spc="-1" strike="noStrike">
                <a:solidFill>
                  <a:srgbClr val="000000"/>
                </a:solidFill>
                <a:latin typeface="Times New Roman"/>
              </a:rPr>
              <a:t>You will also want to give each student a folder.</a:t>
            </a:r>
            <a:r>
              <a:rPr b="0" lang="en-US" sz="1200" spc="-1" strike="noStrike">
                <a:solidFill>
                  <a:srgbClr val="000000"/>
                </a:solidFill>
                <a:latin typeface="Times New Roman"/>
              </a:rPr>
              <a:t> Ask them to write their name and address on their folder if they are that literate. If not, you can help them begin. Let them know that you expect them to keep all their written material in this folder; this also sends the message that you expect them to succeed—they will be doing writing that is worth keeping. This will also help them in assessing their progress. Let them know that you will also be keeping a folder of homework and sample writings and other material relative to their progres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a:t>
            </a:r>
            <a:r>
              <a:rPr b="1" lang="en-US" sz="1200" spc="-1" strike="noStrike">
                <a:solidFill>
                  <a:srgbClr val="000000"/>
                </a:solidFill>
                <a:latin typeface="Times New Roman"/>
              </a:rPr>
              <a:t>Before you teach each lesson, be sure to read over the lesson you plan to teach</a:t>
            </a:r>
            <a:r>
              <a:rPr b="0" lang="en-US" sz="1200" spc="-1" strike="noStrike">
                <a:solidFill>
                  <a:srgbClr val="000000"/>
                </a:solidFill>
                <a:latin typeface="Times New Roman"/>
              </a:rPr>
              <a:t> and plan step by step how you are going to present each section. This will make the lesson move swiftly, and your student will learn more quick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a:t>
            </a:r>
            <a:r>
              <a:rPr b="1" lang="en-US" sz="1200" spc="-1" strike="noStrike">
                <a:solidFill>
                  <a:srgbClr val="000000"/>
                </a:solidFill>
                <a:latin typeface="Times New Roman"/>
              </a:rPr>
              <a:t>Assign homework for your student after each lesson.</a:t>
            </a:r>
            <a:r>
              <a:rPr b="0" lang="en-US" sz="1200" spc="-1" strike="noStrike">
                <a:solidFill>
                  <a:srgbClr val="000000"/>
                </a:solidFill>
                <a:latin typeface="Times New Roman"/>
              </a:rPr>
              <a:t> This may include reviewing the lesson just taught and writing out the lesson sentences. When you assign homework, it is important that you always ask for it and check it over. It should be kept in your folder for that stude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t>
            </a:r>
            <a:r>
              <a:rPr b="1" lang="en-US" sz="1200" spc="-1" strike="noStrike">
                <a:solidFill>
                  <a:srgbClr val="000000"/>
                </a:solidFill>
                <a:latin typeface="Times New Roman"/>
              </a:rPr>
              <a:t>Another technique that leads to mastery of literacy skills is for you to read to your students.</a:t>
            </a:r>
            <a:r>
              <a:rPr b="0" lang="en-US" sz="1200" spc="-1" strike="noStrike">
                <a:solidFill>
                  <a:srgbClr val="000000"/>
                </a:solidFill>
                <a:latin typeface="Times New Roman"/>
              </a:rPr>
              <a:t> If at the end of each session you read to them an inspirational story or one that relates directly to their lives, perhaps bringing a new perspective or humor, several things will happen: they will gain better listening skills; reading aloud will be modeled for them; and it will increase their motiv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828800" y="647640"/>
            <a:ext cx="3257640" cy="2443320"/>
          </a:xfrm>
          <a:prstGeom prst="rect">
            <a:avLst/>
          </a:prstGeom>
          <a:ln w="0">
            <a:noFill/>
          </a:ln>
        </p:spPr>
      </p:sp>
      <p:sp>
        <p:nvSpPr>
          <p:cNvPr id="199"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everal other tested and tried suggestions:  </a:t>
            </a:r>
            <a:r>
              <a:rPr b="1" lang="en-US" sz="1200" spc="-1" strike="noStrike">
                <a:solidFill>
                  <a:srgbClr val="000000"/>
                </a:solidFill>
                <a:latin typeface="Times New Roman"/>
              </a:rPr>
              <a:t>(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s little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say, “No, that is wrong,” or “Don’t you know that?” If you ask a question and there is no answer for several seconds, help your student to answer the question by herself. Only if necessary, tell it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only questions your student should be able to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ask the same exact question of your student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peat a word after your student when she has read it correctly. This may irritate an adult. Do not bore her by telling her what she already know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809880" y="343080"/>
            <a:ext cx="2648160" cy="1985760"/>
          </a:xfrm>
          <a:prstGeom prst="rect">
            <a:avLst/>
          </a:prstGeom>
          <a:ln w="0">
            <a:noFill/>
          </a:ln>
        </p:spPr>
      </p:sp>
      <p:sp>
        <p:nvSpPr>
          <p:cNvPr id="201" name="PlaceHolder 2"/>
          <p:cNvSpPr>
            <a:spLocks noGrp="1"/>
          </p:cNvSpPr>
          <p:nvPr>
            <p:ph type="body"/>
          </p:nvPr>
        </p:nvSpPr>
        <p:spPr>
          <a:xfrm>
            <a:off x="533520" y="2095560"/>
            <a:ext cx="5790960" cy="6324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WITHOUT A BOOK (OH-20)</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ost effective teaching is going to be that which is student-centered. In other words, you are teaching the student what she wants to learn at that moment. She is in control of the learning and therefore more likely to work hard and succeed. Fortunately, this type of learning is also the most cost effective because you do not have to depend entirely on prepared literacy material. If prepared material is available, excellent, but never depend on it entirely—work as much as possible with what your student reques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r student says she would like to be able to read a recipe. Ask which recipe she would like to begin with and have her bring it. Use words in the recipe to teach letter names, letter sounds, word patterns, phonics, and all the other parts of reading. Keeping in mind that literacy also involves speaking, listening, and writing, you might have her tell a story about the recipe. Help her write it down and learn to read key words until she can read what she has written. A group might tell a story and write it, sharing ideas and even illustrating their writ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asy technique is to show the individual or group a picture, preferably of people with whom they can identify and doing something with which they are familiar. Encourage them to discuss the picture. What is happening, what should happen, what are the problems or solutions portrayed, etc. Have them write a story about the picture. This story will probably be only three or four short sentences—at this point, writing is hard work for them! Encourage them to spell the best they can and give them some help if they request it.  When they hav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shed, if they misspelled anything, just write the correct spelling above the word. Then use this story for your reading lesson.  Choose a word from this story. Combine the consonants with the five different vowels to help them learn the letters. Show word patterns. For instance, if the story is about the town well, you can use other letters in the story to show how to form more words. (See example at be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wn w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f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wn t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wn bel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wn h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work can be done in any language, any interest group, with relatively no cost. You can see how easily this would also lend itself to using the Bible as a text book, or even talking about Christia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23880" y="647640"/>
            <a:ext cx="3409920" cy="2557440"/>
          </a:xfrm>
          <a:prstGeom prst="rect">
            <a:avLst/>
          </a:prstGeom>
          <a:ln w="0">
            <a:noFill/>
          </a:ln>
        </p:spPr>
      </p:sp>
      <p:sp>
        <p:nvSpPr>
          <p:cNvPr id="203"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T LITERACY PROGRAMS (OH-21)</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cieties in which there is not a lot of reading material available in the language used in the literacy program, students often feel a lack of motivation. They learn to read, but unless they keep reading, they often forget what they have learned. The church can contribute much by supplying materials that a student can freely choose to rea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dults will retain what they learn in literacy classes, but much of the long-term success depends on support after the basic program. Many rural villages have little reading material, if much material in the local language is available at all. Therefore, post-literacy is an important part of a literacy program. It is important for motivation, for consolidating literacy, and for preventing relapse into illiteracy. This is also an important part of the process of social change necessary to sustain women’s participation. For the church, this is the ideal time to introduce materials on parenting, health education, lifestyle issues, and other topics that introduce Christianity and can easily lead to Bible stud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epal, a very successful program was tried that incorporated three phases. In the first, the basic six-month literacy course was supplemented with specific health lessons. In the second, the class continued to meet with the teacher to read and discuss a special health text prepared for the program. The third phase was a 12-month continuing education program where participants came together without a teacher to read and discuss specially prepared materials. Such materials can be obtained from governments or other organizations. Save the Children/USA has developed a family literacy program that provides newly literate mothers with a “Baby Book” for keeping track of their children’s immunizations, illnesses, development, and other events. You would need to investigate what materials are available in the language you intend to use in your literacy program or prepare some yourself.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676520" y="647640"/>
            <a:ext cx="3409920" cy="2557440"/>
          </a:xfrm>
          <a:prstGeom prst="rect">
            <a:avLst/>
          </a:prstGeom>
          <a:ln w="0">
            <a:noFill/>
          </a:ln>
        </p:spPr>
      </p:sp>
      <p:sp>
        <p:nvSpPr>
          <p:cNvPr id="205"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SECOND LANGUAGE LITERACY?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business, education, and commerce are in a different language than the one a person grew up speaking. He or she may be literate in the first language but now need to learn to read and write a second language. Many times this is English, but certainly not always. For instance, in much of West Africa, individuals need to learn to read and write French. The same may be true for individuals in Haiti. In Germany, many of Turkish descent need to learn to read and write German. Many of Spanish descent in the United States need English. As witness for Christianity and benefit to the community, this is a legitimate outreach for Women’s Ministries. However, 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600200" y="647640"/>
            <a:ext cx="3562200" cy="2671920"/>
          </a:xfrm>
          <a:prstGeom prst="rect">
            <a:avLst/>
          </a:prstGeom>
          <a:ln w="0">
            <a:noFill/>
          </a:ln>
        </p:spPr>
      </p:sp>
      <p:sp>
        <p:nvSpPr>
          <p:cNvPr id="207" name="PlaceHolder 2"/>
          <p:cNvSpPr>
            <a:spLocks noGrp="1"/>
          </p:cNvSpPr>
          <p:nvPr>
            <p:ph type="body"/>
          </p:nvPr>
        </p:nvSpPr>
        <p:spPr>
          <a:xfrm>
            <a:off x="685800" y="3467160"/>
            <a:ext cx="5486400" cy="4921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FOR THE FUTURE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hristians, we must be concerned with eradicating illiteracy. But we must also be concerned with preventing it. As a general rule, Seventh-day Adventists are well-educated in comparison to the general population, and advocates of education. But there may be illiterates in our midst that are missed—we need to do all we can in our churches to promote not only education, but also motivation and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hings you and the church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shu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literacy awareness in your con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about literacy programs in you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what type of program is still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financial contribution to a literac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progra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676520" y="647640"/>
            <a:ext cx="3409920" cy="2557440"/>
          </a:xfrm>
          <a:prstGeom prst="rect">
            <a:avLst/>
          </a:prstGeom>
          <a:ln w="0">
            <a:noFill/>
          </a:ln>
        </p:spPr>
      </p:sp>
      <p:sp>
        <p:nvSpPr>
          <p:cNvPr id="209"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tutoring space in your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a tu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a student to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abysitting service during the tutoring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 gift of reading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 in your community’s educ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knowledgeable about your local board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ocate equal education for 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600200" y="647640"/>
            <a:ext cx="3124080" cy="2362320"/>
          </a:xfrm>
          <a:prstGeom prst="rect">
            <a:avLst/>
          </a:prstGeom>
          <a:ln w="0">
            <a:noFill/>
          </a:ln>
        </p:spPr>
      </p:sp>
      <p:sp>
        <p:nvSpPr>
          <p:cNvPr id="162"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ristian Literacy</a:t>
            </a:r>
            <a:r>
              <a:rPr b="0" lang="en-US" sz="1200" spc="-1" strike="noStrike">
                <a:solidFill>
                  <a:srgbClr val="000000"/>
                </a:solidFill>
                <a:latin typeface="Times New Roman"/>
              </a:rPr>
              <a:t>. . . </a:t>
            </a:r>
            <a:r>
              <a:rPr b="1" lang="en-US" sz="1200" spc="-1" strike="noStrike">
                <a:solidFill>
                  <a:srgbClr val="000000"/>
                </a:solidFill>
                <a:latin typeface="Times New Roman"/>
              </a:rPr>
              <a:t>(OH-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tool for the evangelist—providing an ideal climate for conversion and church plan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the pages of the Bible and other Christian literature to both non-Christians and growing conver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door into nations and parts of nations where other types of missions are unwelc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a satisfying activity for local Christians who are eager to help lift up their own people to a better lif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s compassion, demonstrating that Christians are still in the Samaritan busin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752480" y="571680"/>
            <a:ext cx="3105360" cy="2253960"/>
          </a:xfrm>
          <a:prstGeom prst="rect">
            <a:avLst/>
          </a:prstGeom>
          <a:ln w="0">
            <a:noFill/>
          </a:ln>
        </p:spPr>
      </p:sp>
      <p:sp>
        <p:nvSpPr>
          <p:cNvPr id="164"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3)</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The days are coming,” declares the Sovereign Lord, “When I will send a famine through the land—not a famine of food or a thirst for water, but a famine of hearing the words of the Lord.”</a:t>
            </a:r>
            <a:br>
              <a:rPr sz="1200"/>
            </a:br>
            <a:br>
              <a:rPr sz="400"/>
            </a:br>
            <a:r>
              <a:rPr b="0" lang="en-US" sz="1000" spc="-1" strike="noStrike">
                <a:solidFill>
                  <a:srgbClr val="000000"/>
                </a:solidFill>
                <a:latin typeface="Times New Roman"/>
              </a:rPr>
              <a:t>Amos 8: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52480" y="419040"/>
            <a:ext cx="3181320" cy="2254320"/>
          </a:xfrm>
          <a:prstGeom prst="rect">
            <a:avLst/>
          </a:prstGeom>
          <a:ln w="0">
            <a:noFill/>
          </a:ln>
        </p:spPr>
      </p:sp>
      <p:sp>
        <p:nvSpPr>
          <p:cNvPr id="166" name="PlaceHolder 2"/>
          <p:cNvSpPr>
            <a:spLocks noGrp="1"/>
          </p:cNvSpPr>
          <p:nvPr>
            <p:ph type="body"/>
          </p:nvPr>
        </p:nvSpPr>
        <p:spPr>
          <a:xfrm>
            <a:off x="685800" y="2857320"/>
            <a:ext cx="5486400" cy="5530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THE CHURCH (OH-4)</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 White, </a:t>
            </a:r>
            <a:r>
              <a:rPr b="0" i="1" lang="en-US" sz="1200" spc="-1" strike="noStrike">
                <a:solidFill>
                  <a:srgbClr val="000000"/>
                </a:solidFill>
                <a:latin typeface="Times New Roman"/>
              </a:rPr>
              <a:t>Ministry of Healing</a:t>
            </a:r>
            <a:r>
              <a:rPr b="0" lang="en-US" sz="1200" spc="-1" strike="noStrike">
                <a:solidFill>
                  <a:srgbClr val="000000"/>
                </a:solidFill>
                <a:latin typeface="Times New Roman"/>
              </a:rPr>
              <a:t>, p. 143. …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trive to witness for our Lord and to follow His example, we look around to find the needs of the people so that we too may minister, win their confidence, and invite them to follow the Savior. One of the most obvious needs for women in the world is the need for literacy—the ability to read and write.</a:t>
            </a:r>
            <a:r>
              <a:rPr b="0" i="1" lang="en-US" sz="1200" spc="-1" strike="noStrike">
                <a:solidFill>
                  <a:srgbClr val="000000"/>
                </a:solidFill>
                <a:latin typeface="Times New Roman"/>
              </a:rPr>
              <a:t> </a:t>
            </a:r>
            <a:r>
              <a:rPr b="0" lang="en-US" sz="1200" spc="-1" strike="noStrike">
                <a:solidFill>
                  <a:srgbClr val="000000"/>
                </a:solidFill>
                <a:latin typeface="Times New Roman"/>
              </a:rPr>
              <a:t>Non-readers comprise the vast majority of the peoples yet to be reached with the Gospe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Nations estimates that in the world today there are about one billion adults who cannot read or write well enough to function or reach their basic goals in life. Many cannot read anything at all. East Asian and South Asian developing countries had 70% of the world’s population of illiterates in 1990. In 48 of 102 developing countries, the illiteracy rate exceeded 40%. UNESCO reports that the United States literacy rate at greater than 95%, but the </a:t>
            </a:r>
            <a:r>
              <a:rPr b="0" i="1" lang="en-US" sz="1200" spc="-1" strike="noStrike">
                <a:solidFill>
                  <a:srgbClr val="000000"/>
                </a:solidFill>
                <a:latin typeface="Times New Roman"/>
              </a:rPr>
              <a:t>National Adult Literacy Survey</a:t>
            </a:r>
            <a:r>
              <a:rPr b="0" lang="en-US" sz="1200" spc="-1" strike="noStrike">
                <a:solidFill>
                  <a:srgbClr val="000000"/>
                </a:solidFill>
                <a:latin typeface="Times New Roman"/>
              </a:rPr>
              <a:t> (1993) found that at least 45% of the US population has low or severely limited basic skills. Other democracies have similar problem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is important to the church in two principal ways: as nurture of the members and as outreach. It is obvious that unless a person can read with at least a minimal degree of fluency, he or she cannot read the Bible. Or anything else that the church produces. These persons cannot do any type of Bible study that requires reading or writing. They cannot read Ellen White or any other devotional or instructional material. If they are parents, they cannot read the Sabbath School lesson to their children. Church leadership would also be difficult. Many of these illiterates live in areas of the world in which it has been particularly difficult to spread the Christian mess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have studied church planting have discovered that in areas of the world where less than fifty percent of the population is literate, teaching reading, particularly classes based on the Bible, is one of the quickest ways of building up a church. In a survey in the United States, half of those surveyed said that the reason they wanted to learn to read was so that they could read their Bibles and participate in church activit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905120" y="343080"/>
            <a:ext cx="3028680" cy="2253960"/>
          </a:xfrm>
          <a:prstGeom prst="rect">
            <a:avLst/>
          </a:prstGeom>
          <a:ln w="0">
            <a:noFill/>
          </a:ln>
        </p:spPr>
      </p:sp>
      <p:sp>
        <p:nvSpPr>
          <p:cNvPr id="168" name="PlaceHolder 2"/>
          <p:cNvSpPr>
            <a:spLocks noGrp="1"/>
          </p:cNvSpPr>
          <p:nvPr>
            <p:ph type="body"/>
          </p:nvPr>
        </p:nvSpPr>
        <p:spPr>
          <a:xfrm>
            <a:off x="685440" y="2705040"/>
            <a:ext cx="5715000" cy="563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hurch, the Word, Jesus Incarnate, is supreme. But unless one knows how to read, accessing the Word is difficult. It is important that Christians be able to study and confirm their faith. Pastor Samson Phiri of Zambia once said, “Dictators love an illiterate electorate; illiterates will believe anything they are told.” We do not want church members who will believe just any new thing they are told; we want them to study verse upon verse, to know and hold onto the truth.  </a:t>
            </a:r>
            <a:r>
              <a:rPr b="1" lang="en-US" sz="1200" spc="-1" strike="noStrike">
                <a:solidFill>
                  <a:srgbClr val="000000"/>
                </a:solidFill>
                <a:latin typeface="Times New Roman"/>
              </a:rPr>
              <a:t>(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aders are captive, prisoners of their handicap. As we carry out Christ’s work, we too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pirit of the Lord is 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he has anointe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ach good news to the p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has sent me to proclaim freedom for the pris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covery of sight for the bl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lease the oppressed,</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claim the year of the Lord’s favo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a. 61:1, 2 and Luke 4: 18, 19, NI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discover needs, it is with satisfaction that we can develop plans to meet these needs. As Hector Hammerly, Ph.D., of British Columbia, Canada, has said, “To provide the gift of reading to others is a signal Christian service that empowers them to live more interesting and far more useful lives. Furthermore, the teaching of literacy lends itself quite well to sharing the Gospel in a gradual, tactful way.”</a:t>
            </a:r>
            <a:r>
              <a:rPr b="0" lang="en-US" sz="1200" spc="-1" strike="noStrike" u="sng">
                <a:solidFill>
                  <a:srgbClr val="009999"/>
                </a:solidFill>
                <a:uFillTx/>
                <a:latin typeface="Times New Roman"/>
                <a:hlinkClick r:id="rId1" action="ppaction://hlinksldjump"/>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parts of the world, literacy programs can use the Bible as an important part of the lesson and reading material. Each Women’s Ministries group will need to assess the situation and use the Bible only if it is safe to do so. In some places using the Bible openly and immediately can endanger lives and shut down the literacy program. If there are no such conditions, however, the Bible is excellent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676520" y="495360"/>
            <a:ext cx="2876400" cy="2406600"/>
          </a:xfrm>
          <a:prstGeom prst="rect">
            <a:avLst/>
          </a:prstGeom>
          <a:ln w="0">
            <a:noFill/>
          </a:ln>
        </p:spPr>
      </p:sp>
      <p:sp>
        <p:nvSpPr>
          <p:cNvPr id="170" name="PlaceHolder 2"/>
          <p:cNvSpPr>
            <a:spLocks noGrp="1"/>
          </p:cNvSpPr>
          <p:nvPr>
            <p:ph type="body"/>
          </p:nvPr>
        </p:nvSpPr>
        <p:spPr>
          <a:xfrm>
            <a:off x="685800" y="3314520"/>
            <a:ext cx="5486400" cy="50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in which Bible literacy is important to the chu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gives church members a way to minister to others in a non-threatening way. It encourages both the tutor and the student to become daily Bible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non-Christian will know the tutor cares about them because of the help they are receiving. They will be curious about why the tutor is so loving and kind; they will be more open to the Gos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t strengthens the existing church if church members learn to read. If the members cannot read they can easily be led into false doctrine. A Bible-reading church is a strong and growing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iteracy programs can build non-political cooperation with governments because almost all governments want their people to be able to read. It can strengthen community life as well when topics such as health, parenting, or sanitation are also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t is something that can be done right in the local church. One does not have to go a long ways to find people who need the help of a loving chu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676520" y="419040"/>
            <a:ext cx="3105000" cy="2482920"/>
          </a:xfrm>
          <a:prstGeom prst="rect">
            <a:avLst/>
          </a:prstGeom>
          <a:ln w="0">
            <a:noFill/>
          </a:ln>
        </p:spPr>
      </p:sp>
      <p:sp>
        <p:nvSpPr>
          <p:cNvPr id="172"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WOMEN’S MINISTRIE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one billion adults who cannot read, the majority are women, somewhere around 650,000,000. Since writing began, women have had less access to reading and writing than men. It is still true today in many areas of the world. In some countries the situation is becoming worse, however, rather than better. In fact, the number of illiterate women in the world will continue to grow until sometime in the next two decades when efforts to expand access to primary school can provide an education to most children. These women are a natural group for whom Women’s Ministries can work and witness. When a woman learns to read, her whole family has a better chance of becoming literate. As reading is taught, these women can be introduced to material teaching Christian parenting, health, life style, and philosophy. “When you educate a man you simply educate an individual, but if you educate a woman you educate a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these women live in what Global Mission describes as the “10-40 Window,” or that part of the world 10 degrees north and 40 degrees south of the equator, the focus of much of our Global Mission work. The bulk of these women are Muslim. Not only is this a difficult group of people with whom to work, but also it is almost impossible for a man to work with any of these women. Therefore, it is an important work that women can under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Women’s Ministries literacy programs will be run by women, it would be a disservice to exclude men who may also want to be involved, or to limit our classes just to women. Some studies show that both men and women learn better when both are involved in the classes. In other societies, women do not want to be in classes with men. The leaders in each area of the world will have to make their own decisions on this, but as much as possible, let us always be inclusi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752480" y="495360"/>
            <a:ext cx="3486240" cy="2406600"/>
          </a:xfrm>
          <a:prstGeom prst="rect">
            <a:avLst/>
          </a:prstGeom>
          <a:ln w="0">
            <a:noFill/>
          </a:ln>
        </p:spPr>
      </p:sp>
      <p:sp>
        <p:nvSpPr>
          <p:cNvPr id="174"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er birthrates (smaller fami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lower birthrates, the parents are better able to provide Christian edu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hildren have improved educational abili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maternal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ter marri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erall improvement in family heal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infant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reater sense of personal self-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0A014-ADFE-4643-A18C-F6A30F9A3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14381-6243-4B14-8A46-4650EFC31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E528A-7FF8-47E5-B24D-E8252C882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1E0EC-9DE9-47F7-A703-A97B39043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23D26-C40F-4857-BC12-B02B24A61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0C319-8362-47BB-9D85-3D31DE17E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C1221-6467-4DD3-B049-A7AAA5C89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2210E-82AC-4FE6-9B03-F3817A6B7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1EEDE-0AC4-4801-A028-0104FD6B2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591F0-4ED3-4716-99B2-A527F0139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B6F8A-9D65-49D3-B5D8-09A89D7BB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41767-41F4-4F33-8247-DCA6EB937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18BFA-C5A5-4768-8B43-19D216EDB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3088E-CC42-42CC-9B57-16A293F5D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8E0E8-DCD3-4849-A156-EEBE31C97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77DD7-D9D9-4D3E-8C16-1DE644D12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72A7B-B8D5-499D-A6F4-1D1089CE3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14DE5-7A1E-40D4-8622-A2898C359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7015C-C32D-4E6E-8FA2-9793175E2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E7074-88C1-4802-B4DA-BE4F74BB3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D6E54-2379-4187-A4F3-F08A533EF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41CF-305E-404F-A7CF-B78176D84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F1A87-DBA2-4C2F-AE74-6156B92B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D5222-9B9E-4B61-A3FB-9FF92E4EA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DEE9-2159-467D-ABD8-A82116E28EC1}"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CA8A-74E5-4FCD-934A-4105B3C3B9D8}"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gif"/><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581280" y="380880"/>
            <a:ext cx="5562720" cy="6019920"/>
          </a:xfrm>
          <a:prstGeom prst="rect">
            <a:avLst/>
          </a:prstGeom>
          <a:noFill/>
          <a:ln w="0">
            <a:noFill/>
          </a:ln>
        </p:spPr>
        <p:txBody>
          <a:bodyPr lIns="90000" rIns="90000" tIns="46800" bIns="46800" anchor="t">
            <a:normAutofit fontScale="96000"/>
          </a:bodyPr>
          <a:p>
            <a:pPr marL="329040" indent="0" algn="ctr">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dde3dc"/>
                </a:solidFill>
                <a:latin typeface="Trebuchet MS"/>
              </a:rPr>
              <a:t>Literacy Training</a:t>
            </a:r>
            <a:endParaRPr b="0" lang="en-US" sz="5200" spc="-1" strike="noStrike">
              <a:solidFill>
                <a:srgbClr val="dde3dc"/>
              </a:solidFill>
              <a:latin typeface="Trebuchet MS"/>
            </a:endParaRPr>
          </a:p>
          <a:p>
            <a:pPr marL="32904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By </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Ardis Dick Stenbakken</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Leadership Certification Level 2</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General Conference</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Women’s Ministries</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2" name="PlaceHolder 2"/>
          <p:cNvSpPr>
            <a:spLocks noGrp="1"/>
          </p:cNvSpPr>
          <p:nvPr>
            <p:ph/>
          </p:nvPr>
        </p:nvSpPr>
        <p:spPr>
          <a:xfrm>
            <a:off x="457200" y="1143000"/>
            <a:ext cx="8686800" cy="5029200"/>
          </a:xfrm>
          <a:prstGeom prst="rect">
            <a:avLst/>
          </a:prstGeom>
          <a:noFill/>
          <a:ln w="0">
            <a:noFill/>
          </a:ln>
        </p:spPr>
        <p:txBody>
          <a:bodyPr lIns="90000" rIns="90000" tIns="46800" bIns="46800" anchor="t">
            <a:normAutofit fontScale="99000"/>
          </a:bodyPr>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read Scriptur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assume responsibility for personal spiritual choic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expanded influence in teaching children spiritual valu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become involved in the church’s mission</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 greater possibility of becoming financially stabl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increased employment choices and productivity</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the ability to provide financial support to the church</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more involvement in community development</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8640" y="380880"/>
            <a:ext cx="57150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Obstacles for Women</a:t>
            </a:r>
            <a:endParaRPr b="1" lang="en-US" sz="4000" spc="-1" strike="noStrike">
              <a:solidFill>
                <a:srgbClr val="dde3dc"/>
              </a:solidFill>
              <a:latin typeface="Trebuchet MS"/>
            </a:endParaRPr>
          </a:p>
        </p:txBody>
      </p:sp>
      <p:sp>
        <p:nvSpPr>
          <p:cNvPr id="114" name="PlaceHolder 2"/>
          <p:cNvSpPr>
            <a:spLocks noGrp="1"/>
          </p:cNvSpPr>
          <p:nvPr>
            <p:ph type="subTitle"/>
          </p:nvPr>
        </p:nvSpPr>
        <p:spPr>
          <a:xfrm>
            <a:off x="3657600" y="1828800"/>
            <a:ext cx="5105520" cy="4572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A.</a:t>
            </a:r>
            <a:r>
              <a:rPr b="0" lang="en-US" sz="2400" spc="-1" strike="noStrike">
                <a:solidFill>
                  <a:srgbClr val="dde3dc"/>
                </a:solidFill>
                <a:latin typeface="Trebuchet MS"/>
              </a:rPr>
              <a:t>  </a:t>
            </a:r>
            <a:r>
              <a:rPr b="1" lang="en-US" sz="2400" spc="-1" strike="noStrike">
                <a:solidFill>
                  <a:srgbClr val="dde3dc"/>
                </a:solidFill>
                <a:latin typeface="Trebuchet MS"/>
              </a:rPr>
              <a:t>Some governments do not yet feel that education is of paramount importance for women.</a:t>
            </a:r>
            <a:r>
              <a:rPr b="0" lang="en-US" sz="2400" spc="-1" strike="noStrike">
                <a:solidFill>
                  <a:srgbClr val="dde3dc"/>
                </a:solidFill>
                <a:latin typeface="Trebuchet MS"/>
              </a:rPr>
              <a:t> </a:t>
            </a:r>
            <a:endParaRPr b="0" lang="en-US" sz="24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B.  Many women have a difficulty finding the time and energy for schooling even if given the opportunity.</a:t>
            </a: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C.  The literacy worker will have to plan the program so that the needs of the women are taken into consideration.</a:t>
            </a:r>
            <a:r>
              <a:rPr b="0" lang="en-US" sz="2800" spc="-1" strike="noStrike">
                <a:solidFill>
                  <a:srgbClr val="dde3dc"/>
                </a:solidFill>
                <a:latin typeface="Trebuchet MS"/>
              </a:rPr>
              <a:t>  </a:t>
            </a:r>
            <a:endParaRPr b="0" lang="en-US" sz="2800" spc="-1" strike="noStrike">
              <a:solidFill>
                <a:srgbClr val="dde3dc"/>
              </a:solidFill>
              <a:latin typeface="Trebuchet MS"/>
            </a:endParaRPr>
          </a:p>
        </p:txBody>
      </p:sp>
      <p:sp>
        <p:nvSpPr>
          <p:cNvPr id="11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16" name="" descr=""/>
          <p:cNvPicPr/>
          <p:nvPr/>
        </p:nvPicPr>
        <p:blipFill>
          <a:blip r:embed="rId2"/>
          <a:srcRect l="-470" t="-1402" r="-470" b="-1402"/>
          <a:stretch/>
        </p:blipFill>
        <p:spPr>
          <a:xfrm>
            <a:off x="609480" y="685800"/>
            <a:ext cx="209232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is Literacy?</a:t>
            </a:r>
            <a:endParaRPr b="1" lang="en-US" sz="4400" spc="-1" strike="noStrike">
              <a:solidFill>
                <a:srgbClr val="dde3dc"/>
              </a:solidFill>
              <a:latin typeface="Trebuchet MS"/>
            </a:endParaRPr>
          </a:p>
        </p:txBody>
      </p:sp>
      <p:sp>
        <p:nvSpPr>
          <p:cNvPr id="118" name="PlaceHolder 2"/>
          <p:cNvSpPr>
            <a:spLocks noGrp="1"/>
          </p:cNvSpPr>
          <p:nvPr>
            <p:ph/>
          </p:nvPr>
        </p:nvSpPr>
        <p:spPr>
          <a:xfrm>
            <a:off x="3505320" y="1980720"/>
            <a:ext cx="5333760" cy="4419720"/>
          </a:xfrm>
          <a:prstGeom prst="rect">
            <a:avLst/>
          </a:prstGeom>
          <a:noFill/>
          <a:ln w="0">
            <a:noFill/>
          </a:ln>
        </p:spPr>
        <p:txBody>
          <a:bodyPr lIns="90000" rIns="90000" tIns="46800" bIns="46800" anchor="t">
            <a:normAutofit fontScale="97000"/>
          </a:bodyPr>
          <a:p>
            <a:pPr marL="33264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de3dc"/>
                </a:solidFill>
                <a:latin typeface="Trebuchet MS"/>
              </a:rPr>
              <a:t>Literacy and illiteracy are </a:t>
            </a:r>
            <a:r>
              <a:rPr b="0" i="1" lang="en-US" sz="3500" spc="-1" strike="noStrike">
                <a:solidFill>
                  <a:srgbClr val="dde3dc"/>
                </a:solidFill>
                <a:latin typeface="Trebuchet MS"/>
              </a:rPr>
              <a:t>not</a:t>
            </a:r>
            <a:r>
              <a:rPr b="0" lang="en-US" sz="3500" spc="-1" strike="noStrike">
                <a:solidFill>
                  <a:srgbClr val="dde3dc"/>
                </a:solidFill>
                <a:latin typeface="Trebuchet MS"/>
              </a:rPr>
              <a:t> opposite poles, but a continuum. In order to be truly literate, a person needs to be able to function at whatever goal level that individual has set.</a:t>
            </a:r>
            <a:endParaRPr b="0" lang="en-US" sz="3500" spc="-1" strike="noStrike">
              <a:solidFill>
                <a:srgbClr val="dde3dc"/>
              </a:solidFill>
              <a:latin typeface="Trebuchet MS"/>
            </a:endParaRPr>
          </a:p>
        </p:txBody>
      </p:sp>
      <p:pic>
        <p:nvPicPr>
          <p:cNvPr id="119" name="" descr=""/>
          <p:cNvPicPr/>
          <p:nvPr/>
        </p:nvPicPr>
        <p:blipFill>
          <a:blip r:embed="rId2"/>
          <a:stretch/>
        </p:blipFill>
        <p:spPr>
          <a:xfrm>
            <a:off x="533520" y="838080"/>
            <a:ext cx="2730240" cy="28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14800" y="1371240"/>
            <a:ext cx="45720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8c5e"/>
                </a:solidFill>
                <a:latin typeface="Trebuchet MS"/>
              </a:rPr>
              <a:t>Who Needs It?</a:t>
            </a:r>
            <a:endParaRPr b="1" lang="en-US" sz="4800" spc="-1" strike="noStrike">
              <a:solidFill>
                <a:srgbClr val="dde3dc"/>
              </a:solidFill>
              <a:latin typeface="Trebuchet MS"/>
            </a:endParaRPr>
          </a:p>
        </p:txBody>
      </p:sp>
      <p:sp>
        <p:nvSpPr>
          <p:cNvPr id="121" name="PlaceHolder 2"/>
          <p:cNvSpPr>
            <a:spLocks noGrp="1"/>
          </p:cNvSpPr>
          <p:nvPr>
            <p:ph type="subTitle"/>
          </p:nvPr>
        </p:nvSpPr>
        <p:spPr>
          <a:xfrm>
            <a:off x="3657240" y="3048120"/>
            <a:ext cx="5334120" cy="3504960"/>
          </a:xfrm>
          <a:prstGeom prst="rect">
            <a:avLst/>
          </a:prstGeom>
          <a:noFill/>
          <a:ln w="0">
            <a:noFill/>
          </a:ln>
        </p:spPr>
        <p:txBody>
          <a:bodyPr lIns="90000" rIns="90000" tIns="46800" bIns="46800" anchor="t">
            <a:noAutofit/>
          </a:bodyPr>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Illiterates—adults who cannot function at a standard level of reading or writing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Those who need to improve their skill level to be able to get a better job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Second language illiterates—they cannot read or write in the national language of government and commerce</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Pre-literates—small children </a:t>
            </a:r>
            <a:endParaRPr b="0" lang="en-US" sz="2300" spc="-1" strike="noStrike">
              <a:solidFill>
                <a:srgbClr val="dde3dc"/>
              </a:solidFill>
              <a:latin typeface="Trebuchet MS"/>
            </a:endParaRPr>
          </a:p>
        </p:txBody>
      </p:sp>
      <p:pic>
        <p:nvPicPr>
          <p:cNvPr id="122" name="" descr=""/>
          <p:cNvPicPr/>
          <p:nvPr/>
        </p:nvPicPr>
        <p:blipFill>
          <a:blip r:embed="rId2"/>
          <a:srcRect l="-2100" t="-46" r="-2100" b="-46"/>
          <a:stretch/>
        </p:blipFill>
        <p:spPr>
          <a:xfrm>
            <a:off x="762120" y="1676520"/>
            <a:ext cx="2473200" cy="279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86200" y="1371240"/>
            <a:ext cx="49528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Adults Learn</a:t>
            </a:r>
            <a:endParaRPr b="1" lang="en-US" sz="4400" spc="-1" strike="noStrike">
              <a:solidFill>
                <a:srgbClr val="dde3dc"/>
              </a:solidFill>
              <a:latin typeface="Trebuchet MS"/>
            </a:endParaRPr>
          </a:p>
        </p:txBody>
      </p:sp>
      <p:sp>
        <p:nvSpPr>
          <p:cNvPr id="124" name="PlaceHolder 2"/>
          <p:cNvSpPr>
            <a:spLocks noGrp="1"/>
          </p:cNvSpPr>
          <p:nvPr>
            <p:ph type="subTitle"/>
          </p:nvPr>
        </p:nvSpPr>
        <p:spPr>
          <a:xfrm>
            <a:off x="4038120" y="3428640"/>
            <a:ext cx="4496040" cy="2590920"/>
          </a:xfrm>
          <a:prstGeom prst="rect">
            <a:avLst/>
          </a:prstGeom>
          <a:noFill/>
          <a:ln w="0">
            <a:noFill/>
          </a:ln>
        </p:spPr>
        <p:txBody>
          <a:bodyPr lIns="90000" rIns="90000" tIns="46800" bIns="46800" anchor="t">
            <a:noAutofit/>
          </a:bodyPr>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spect</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Immediacy</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levance</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Hands-on learning</a:t>
            </a:r>
            <a:endParaRPr b="0" lang="en-US" sz="3600" spc="-1" strike="noStrike">
              <a:solidFill>
                <a:srgbClr val="dde3dc"/>
              </a:solidFill>
              <a:latin typeface="Trebuchet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pic>
        <p:nvPicPr>
          <p:cNvPr id="125" name="" descr=""/>
          <p:cNvPicPr/>
          <p:nvPr/>
        </p:nvPicPr>
        <p:blipFill>
          <a:blip r:embed="rId2"/>
          <a:srcRect l="-1372" t="-1723" r="-1372" b="-1723"/>
          <a:stretch/>
        </p:blipFill>
        <p:spPr>
          <a:xfrm>
            <a:off x="685800" y="1905120"/>
            <a:ext cx="248436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380880" y="838080"/>
          <a:ext cx="8001000" cy="5330880"/>
        </p:xfrm>
        <a:graphic>
          <a:graphicData uri="http://schemas.openxmlformats.org/drawingml/2006/table">
            <a:tbl>
              <a:tblPr/>
              <a:tblGrid>
                <a:gridCol w="4889520"/>
                <a:gridCol w="3111480"/>
              </a:tblGrid>
              <a:tr h="1170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Instructional </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Strategy</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Average</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Retention Rate</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Lecture</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Reading</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10%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Audio Visual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2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Discussion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Practice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75%</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657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Teach Others/</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mmediate Used Learning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9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533160"/>
            <a:ext cx="61722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Here are some guidelines for adults learners:</a:t>
            </a:r>
            <a:endParaRPr b="1" lang="en-US" sz="3600" spc="-1" strike="noStrike">
              <a:solidFill>
                <a:srgbClr val="dde3dc"/>
              </a:solidFill>
              <a:latin typeface="Trebuchet MS"/>
            </a:endParaRPr>
          </a:p>
        </p:txBody>
      </p:sp>
      <p:sp>
        <p:nvSpPr>
          <p:cNvPr id="128" name="PlaceHolder 2"/>
          <p:cNvSpPr>
            <a:spLocks noGrp="1"/>
          </p:cNvSpPr>
          <p:nvPr>
            <p:ph/>
          </p:nvPr>
        </p:nvSpPr>
        <p:spPr>
          <a:xfrm>
            <a:off x="2286000" y="1981080"/>
            <a:ext cx="6858000" cy="4572000"/>
          </a:xfrm>
          <a:prstGeom prst="rect">
            <a:avLst/>
          </a:prstGeom>
          <a:noFill/>
          <a:ln w="0">
            <a:noFill/>
          </a:ln>
        </p:spPr>
        <p:txBody>
          <a:bodyPr lIns="90000" rIns="90000" tIns="46800" bIns="46800" anchor="t">
            <a:normAutofit fontScale="99000"/>
          </a:bodyPr>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peak softly. Be courteous and respectful.</a:t>
            </a:r>
            <a:r>
              <a:rPr b="0" lang="en-US" sz="2200" spc="-1" strike="noStrike">
                <a:solidFill>
                  <a:srgbClr val="dde3dc"/>
                </a:solidFill>
                <a:latin typeface="Trebuchet MS"/>
              </a:rPr>
              <a: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Always encourage your studen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Keep humble, showing honor to your student. Treat her as an </a:t>
            </a:r>
            <a:r>
              <a:rPr b="0" i="1" lang="en-US" sz="2200" spc="-1" strike="noStrike">
                <a:solidFill>
                  <a:srgbClr val="dde3dc"/>
                </a:solidFill>
                <a:latin typeface="Trebuchet MS"/>
              </a:rPr>
              <a:t>equal; </a:t>
            </a:r>
            <a:r>
              <a:rPr b="0" lang="en-US" sz="2200" spc="-1" strike="noStrike">
                <a:solidFill>
                  <a:srgbClr val="dde3dc"/>
                </a:solidFill>
                <a:latin typeface="Trebuchet MS"/>
              </a:rPr>
              <a:t>never appear superior.</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Never laugh at mistakes or allow others to laugh.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Love your student and tell her you are sure she can learn quickly.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When you are unable to teach, either find a substitute teacher or plan with your student well in advance to teach her at another time.</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it beside your student. Try to make her feel you are her equal, not superior. </a:t>
            </a:r>
            <a:endParaRPr b="0" lang="en-US" sz="2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to Begin</a:t>
            </a:r>
            <a:endParaRPr b="1" lang="en-US" sz="4400" spc="-1" strike="noStrike">
              <a:solidFill>
                <a:srgbClr val="dde3dc"/>
              </a:solidFill>
              <a:latin typeface="Trebuchet MS"/>
            </a:endParaRPr>
          </a:p>
        </p:txBody>
      </p:sp>
      <p:sp>
        <p:nvSpPr>
          <p:cNvPr id="130" name="PlaceHolder 2"/>
          <p:cNvSpPr>
            <a:spLocks noGrp="1"/>
          </p:cNvSpPr>
          <p:nvPr>
            <p:ph/>
          </p:nvPr>
        </p:nvSpPr>
        <p:spPr>
          <a:xfrm>
            <a:off x="3504960" y="1980720"/>
            <a:ext cx="5638680" cy="4419720"/>
          </a:xfrm>
          <a:prstGeom prst="rect">
            <a:avLst/>
          </a:prstGeom>
          <a:noFill/>
          <a:ln w="0">
            <a:noFill/>
          </a:ln>
        </p:spPr>
        <p:txBody>
          <a:bodyPr lIns="90000" rIns="90000" tIns="46800" bIns="46800" anchor="t">
            <a:normAutofit fontScale="94000"/>
          </a:bodyPr>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ome of the important elements of adult education are:</a:t>
            </a:r>
            <a:endParaRPr b="0" lang="en-US" sz="2100" spc="-1" strike="noStrike">
              <a:solidFill>
                <a:srgbClr val="dde3dc"/>
              </a:solidFill>
              <a:latin typeface="Trebuchet MS"/>
            </a:endParaRPr>
          </a:p>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iming and duration of instruc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Instructional material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eacher recruitment and train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articipant motiv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upervision and monitor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Connection to other development activitie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Government/NGO (non-governmental organization) collabor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ost-literacy activities</a:t>
            </a:r>
            <a:endParaRPr b="0" lang="en-US" sz="2100" spc="-1" strike="noStrike">
              <a:solidFill>
                <a:srgbClr val="dde3dc"/>
              </a:solidFill>
              <a:latin typeface="Trebuchet MS"/>
            </a:endParaRPr>
          </a:p>
        </p:txBody>
      </p:sp>
      <p:pic>
        <p:nvPicPr>
          <p:cNvPr id="131" name="" descr=""/>
          <p:cNvPicPr/>
          <p:nvPr/>
        </p:nvPicPr>
        <p:blipFill>
          <a:blip r:embed="rId2"/>
          <a:srcRect l="-40" t="-108" r="-40" b="-108"/>
          <a:stretch/>
        </p:blipFill>
        <p:spPr>
          <a:xfrm>
            <a:off x="838080" y="1295280"/>
            <a:ext cx="18446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6840"/>
            <a:ext cx="609588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Begin the Actual Planning:</a:t>
            </a:r>
            <a:endParaRPr b="1" lang="en-US" sz="3600" spc="-1" strike="noStrike">
              <a:solidFill>
                <a:srgbClr val="dde3dc"/>
              </a:solidFill>
              <a:latin typeface="Trebuchet MS"/>
            </a:endParaRPr>
          </a:p>
        </p:txBody>
      </p:sp>
      <p:sp>
        <p:nvSpPr>
          <p:cNvPr id="133" name="PlaceHolder 2"/>
          <p:cNvSpPr>
            <a:spLocks noGrp="1"/>
          </p:cNvSpPr>
          <p:nvPr>
            <p:ph type="subTitle"/>
          </p:nvPr>
        </p:nvSpPr>
        <p:spPr>
          <a:xfrm>
            <a:off x="685800" y="1294920"/>
            <a:ext cx="6400800" cy="495324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  Decide what the language of instruction will be.</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2.  Find literacy material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3. Recruit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4. Find someone to train your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5. Decide how you will recruit your student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6. Decide how you will test and place your students.</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7. Decide if you will charge the students anythi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8. Decide  where you will have clas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9. Decide when you will meet and for how lo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0. Plan for registration and record keeping: who will do it and how?</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1. Budget.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2. Begin!</a:t>
            </a:r>
            <a:endParaRPr b="0" lang="en-US" sz="2100" spc="-1" strike="noStrike">
              <a:solidFill>
                <a:srgbClr val="dde3dc"/>
              </a:solidFill>
              <a:latin typeface="Trebuchet MS"/>
            </a:endParaRPr>
          </a:p>
        </p:txBody>
      </p:sp>
      <p:pic>
        <p:nvPicPr>
          <p:cNvPr id="134" name="" descr=""/>
          <p:cNvPicPr/>
          <p:nvPr/>
        </p:nvPicPr>
        <p:blipFill>
          <a:blip r:embed="rId2">
            <a:biLevel thresh="50000"/>
          </a:blip>
          <a:srcRect l="0" t="-378" r="0" b="-378"/>
          <a:stretch/>
        </p:blipFill>
        <p:spPr>
          <a:xfrm>
            <a:off x="6019920" y="4030560"/>
            <a:ext cx="3124080" cy="241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36"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81280" y="380880"/>
            <a:ext cx="55627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So You Want to Begin a Literacy Program</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3581280" y="2361960"/>
            <a:ext cx="518184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You are to be congratulated. You want to do something that can make a difference and fill a great need.</a:t>
            </a:r>
            <a:endParaRPr b="0" lang="en-US" sz="3600" spc="-1" strike="noStrike">
              <a:solidFill>
                <a:srgbClr val="dde3dc"/>
              </a:solidFill>
              <a:latin typeface="Trebuchet MS"/>
            </a:endParaRPr>
          </a:p>
        </p:txBody>
      </p:sp>
      <p:sp>
        <p:nvSpPr>
          <p:cNvPr id="92"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93" name="" descr=""/>
          <p:cNvPicPr/>
          <p:nvPr/>
        </p:nvPicPr>
        <p:blipFill>
          <a:blip r:embed="rId2"/>
          <a:srcRect l="-1993" t="-1254" r="-1993" b="-1254"/>
          <a:stretch/>
        </p:blipFill>
        <p:spPr>
          <a:xfrm>
            <a:off x="533520" y="1371600"/>
            <a:ext cx="2666880" cy="214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For the Tutor</a:t>
            </a:r>
            <a:endParaRPr b="1" lang="en-US" sz="4400" spc="-1" strike="noStrike">
              <a:solidFill>
                <a:srgbClr val="dde3dc"/>
              </a:solidFill>
              <a:latin typeface="Trebuchet MS"/>
            </a:endParaRPr>
          </a:p>
        </p:txBody>
      </p:sp>
      <p:sp>
        <p:nvSpPr>
          <p:cNvPr id="138" name="PlaceHolder 2"/>
          <p:cNvSpPr>
            <a:spLocks noGrp="1"/>
          </p:cNvSpPr>
          <p:nvPr>
            <p:ph/>
          </p:nvPr>
        </p:nvSpPr>
        <p:spPr>
          <a:xfrm>
            <a:off x="2286000" y="1752120"/>
            <a:ext cx="6400800" cy="4876920"/>
          </a:xfrm>
          <a:prstGeom prst="rect">
            <a:avLst/>
          </a:prstGeom>
          <a:noFill/>
          <a:ln w="0">
            <a:noFill/>
          </a:ln>
        </p:spPr>
        <p:txBody>
          <a:bodyPr lIns="90000" rIns="90000" tIns="46800" bIns="46800" anchor="t">
            <a:normAutofit fontScale="97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A.  Once again, your relationship with your student is going to be the most important factor in your teaching.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B.  According to one study of literacy programs, the most important teacher behavior is simply showing up for clas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C. If the attendance is not what is expected or the drop-out rate high or early, it would be wise to find out what the reasons are and do what can be done to adjust the program to overcome these problem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D.  For the most part, a program that teaches a whole language approach is the most successful.</a:t>
            </a:r>
            <a:endParaRPr b="0" lang="en-US" sz="2200" spc="-1" strike="noStrike">
              <a:solidFill>
                <a:srgbClr val="dde3dc"/>
              </a:solidFill>
              <a:latin typeface="Trebuchet MS"/>
            </a:endParaRPr>
          </a:p>
        </p:txBody>
      </p:sp>
      <p:pic>
        <p:nvPicPr>
          <p:cNvPr id="139" name="" descr=""/>
          <p:cNvPicPr/>
          <p:nvPr/>
        </p:nvPicPr>
        <p:blipFill>
          <a:blip r:embed="rId2"/>
          <a:stretch/>
        </p:blipFill>
        <p:spPr>
          <a:xfrm>
            <a:off x="533520" y="91440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685800"/>
            <a:ext cx="8305920" cy="5562720"/>
          </a:xfrm>
          <a:prstGeom prst="rect">
            <a:avLst/>
          </a:prstGeom>
          <a:noFill/>
          <a:ln w="0">
            <a:noFill/>
          </a:ln>
        </p:spPr>
        <p:txBody>
          <a:bodyPr lIns="90000" rIns="90000" tIns="46800" bIns="46800" anchor="t">
            <a:normAutofit fontScale="98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E.  For most adults, after a few weeks of study, motivation can wane.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F.  Before a literacy program begins, or in the first session with a student, it is important to talk about commitment.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G.  A good literacy curriculum puts as much stress on comprehension as it does on oral reading.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H.  If possible, have nametags for each person on the first day.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I.  Many adults in Third World countries come to class never having held a pencil.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J.  You will also want to give each student a folder.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K.  Before you teach each lesson, be sure to read over the lesson you plan to teach.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L.  Assign homework for your student after each lesson.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M.  Read to your students. </a:t>
            </a:r>
            <a:endParaRPr b="0" lang="en-US" sz="2200" spc="-1" strike="noStrike">
              <a:solidFill>
                <a:srgbClr val="dde3dc"/>
              </a:solidFill>
              <a:latin typeface="Trebuchet MS"/>
            </a:endParaRPr>
          </a:p>
        </p:txBody>
      </p:sp>
      <p:pic>
        <p:nvPicPr>
          <p:cNvPr id="141" name="" descr=""/>
          <p:cNvPicPr/>
          <p:nvPr/>
        </p:nvPicPr>
        <p:blipFill>
          <a:blip r:embed="rId2"/>
          <a:srcRect l="-1223" t="-530" r="-1223" b="-530"/>
          <a:stretch/>
        </p:blipFill>
        <p:spPr>
          <a:xfrm>
            <a:off x="7238880" y="4724280"/>
            <a:ext cx="1905120" cy="18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8c5e"/>
                </a:solidFill>
                <a:latin typeface="Trebuchet MS"/>
              </a:rPr>
              <a:t>Here are several other tested and tried suggestions:</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43" name="PlaceHolder 2"/>
          <p:cNvSpPr>
            <a:spLocks noGrp="1"/>
          </p:cNvSpPr>
          <p:nvPr>
            <p:ph/>
          </p:nvPr>
        </p:nvSpPr>
        <p:spPr>
          <a:xfrm>
            <a:off x="3429000" y="1752120"/>
            <a:ext cx="5486400" cy="4876920"/>
          </a:xfrm>
          <a:prstGeom prst="rect">
            <a:avLst/>
          </a:prstGeom>
          <a:noFill/>
          <a:ln w="0">
            <a:noFill/>
          </a:ln>
        </p:spPr>
        <p:txBody>
          <a:bodyPr lIns="90000" rIns="90000" tIns="46800" bIns="46800" anchor="t">
            <a:normAutofit/>
          </a:bodyPr>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Say as little as possibl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say, “No, that is wrong,” or “Don’t you know that?” If you ask a question and there is no answer for several seconds, help your student to answer the question by herself. Only if necessary, tell it to her.</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Ask only questions your student should be able to answer. </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ask the same exact question of your student twic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Do not repeat a word after your student when she has read it correctly. This may irritate an adult. Do not bore her by telling her what she already knows.</a:t>
            </a:r>
            <a:endParaRPr b="0" lang="en-US" sz="2000" spc="-1" strike="noStrike">
              <a:solidFill>
                <a:srgbClr val="dde3dc"/>
              </a:solidFill>
              <a:latin typeface="Trebuchet MS"/>
            </a:endParaRPr>
          </a:p>
        </p:txBody>
      </p:sp>
      <p:pic>
        <p:nvPicPr>
          <p:cNvPr id="144" name="" descr=""/>
          <p:cNvPicPr/>
          <p:nvPr/>
        </p:nvPicPr>
        <p:blipFill>
          <a:blip r:embed="rId2"/>
          <a:stretch/>
        </p:blipFill>
        <p:spPr>
          <a:xfrm>
            <a:off x="838080" y="1295280"/>
            <a:ext cx="1940040" cy="218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Teaching Without a Book</a:t>
            </a:r>
            <a:endParaRPr b="1" lang="en-US" sz="4400" spc="-1" strike="noStrike">
              <a:solidFill>
                <a:srgbClr val="dde3dc"/>
              </a:solidFill>
              <a:latin typeface="Trebuchet MS"/>
            </a:endParaRPr>
          </a:p>
        </p:txBody>
      </p:sp>
      <p:sp>
        <p:nvSpPr>
          <p:cNvPr id="146" name="PlaceHolder 2"/>
          <p:cNvSpPr>
            <a:spLocks noGrp="1"/>
          </p:cNvSpPr>
          <p:nvPr>
            <p:ph type="subTitle"/>
          </p:nvPr>
        </p:nvSpPr>
        <p:spPr>
          <a:xfrm>
            <a:off x="3809880" y="3124080"/>
            <a:ext cx="5181840" cy="3353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Your most effective teaching is going to be that which is student-centered. In other words, you are teaching the student what she wants to learn at that moment.</a:t>
            </a:r>
            <a:r>
              <a:rPr b="0" lang="en-US" sz="3600" spc="-1" strike="noStrike">
                <a:solidFill>
                  <a:srgbClr val="dde3dc"/>
                </a:solidFill>
                <a:latin typeface="Trebuchet MS"/>
              </a:rPr>
              <a:t> </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1295280" y="1600200"/>
            <a:ext cx="1236960" cy="2666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Post-Literacy Programs</a:t>
            </a:r>
            <a:endParaRPr b="1" lang="en-US" sz="4400" spc="-1" strike="noStrike">
              <a:solidFill>
                <a:srgbClr val="dde3dc"/>
              </a:solidFill>
              <a:latin typeface="Trebuchet MS"/>
            </a:endParaRPr>
          </a:p>
        </p:txBody>
      </p:sp>
      <p:sp>
        <p:nvSpPr>
          <p:cNvPr id="149" name="PlaceHolder 2"/>
          <p:cNvSpPr>
            <a:spLocks noGrp="1"/>
          </p:cNvSpPr>
          <p:nvPr>
            <p:ph type="subTitle"/>
          </p:nvPr>
        </p:nvSpPr>
        <p:spPr>
          <a:xfrm>
            <a:off x="3733560" y="2971800"/>
            <a:ext cx="5181480" cy="36576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Most adults will retain what they learn in literacy classes, but much of the long-term success depends on support after the basic program. </a:t>
            </a:r>
            <a:endParaRPr b="0" lang="en-US" sz="3600" spc="-1" strike="noStrike">
              <a:solidFill>
                <a:srgbClr val="dde3dc"/>
              </a:solidFill>
              <a:latin typeface="Trebuchet MS"/>
            </a:endParaRPr>
          </a:p>
        </p:txBody>
      </p:sp>
      <p:pic>
        <p:nvPicPr>
          <p:cNvPr id="150" name="" descr=""/>
          <p:cNvPicPr/>
          <p:nvPr/>
        </p:nvPicPr>
        <p:blipFill>
          <a:blip r:embed="rId2"/>
          <a:stretch/>
        </p:blipFill>
        <p:spPr>
          <a:xfrm>
            <a:off x="763560" y="1066680"/>
            <a:ext cx="2390760" cy="377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600" y="457200"/>
            <a:ext cx="586728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About Second Language Literacy?</a:t>
            </a:r>
            <a:endParaRPr b="1" lang="en-US" sz="4400" spc="-1" strike="noStrike">
              <a:solidFill>
                <a:srgbClr val="dde3dc"/>
              </a:solidFill>
              <a:latin typeface="Trebuchet MS"/>
            </a:endParaRPr>
          </a:p>
        </p:txBody>
      </p:sp>
      <p:sp>
        <p:nvSpPr>
          <p:cNvPr id="152"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3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57240" y="457200"/>
            <a:ext cx="52578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Literacy for the Future</a:t>
            </a:r>
            <a:endParaRPr b="1" lang="en-US" sz="4000" spc="-1" strike="noStrike">
              <a:solidFill>
                <a:srgbClr val="dde3dc"/>
              </a:solidFill>
              <a:latin typeface="Trebuchet MS"/>
            </a:endParaRPr>
          </a:p>
        </p:txBody>
      </p:sp>
      <p:sp>
        <p:nvSpPr>
          <p:cNvPr id="154" name="PlaceHolder 2"/>
          <p:cNvSpPr>
            <a:spLocks noGrp="1"/>
          </p:cNvSpPr>
          <p:nvPr>
            <p:ph/>
          </p:nvPr>
        </p:nvSpPr>
        <p:spPr>
          <a:xfrm>
            <a:off x="3580920" y="1676160"/>
            <a:ext cx="5334120" cy="5181480"/>
          </a:xfrm>
          <a:prstGeom prst="rect">
            <a:avLst/>
          </a:prstGeom>
          <a:noFill/>
          <a:ln w="0">
            <a:noFill/>
          </a:ln>
        </p:spPr>
        <p:txBody>
          <a:bodyPr lIns="90000" rIns="90000" tIns="46800" bIns="46800" anchor="t">
            <a:normAutofit/>
          </a:bodyPr>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yourself</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chil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shut-i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Create literacy awareness in your congregatio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nd out about literacy programs in your area</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ssess what type of program is still neede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Make a financial contribution to a literacy program</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t up a program</a:t>
            </a:r>
            <a:endParaRPr b="0" lang="en-US" sz="2400" spc="-1" strike="noStrike">
              <a:solidFill>
                <a:srgbClr val="dde3dc"/>
              </a:solidFill>
              <a:latin typeface="Trebuchet MS"/>
            </a:endParaRPr>
          </a:p>
        </p:txBody>
      </p:sp>
      <p:sp>
        <p:nvSpPr>
          <p:cNvPr id="15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56" name="" descr=""/>
          <p:cNvPicPr/>
          <p:nvPr/>
        </p:nvPicPr>
        <p:blipFill>
          <a:blip r:embed="rId2"/>
          <a:stretch/>
        </p:blipFill>
        <p:spPr>
          <a:xfrm>
            <a:off x="685800" y="1219320"/>
            <a:ext cx="2359080" cy="252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437920" y="380880"/>
            <a:ext cx="6172200" cy="5105520"/>
          </a:xfrm>
          <a:prstGeom prst="rect">
            <a:avLst/>
          </a:prstGeom>
          <a:noFill/>
          <a:ln w="0">
            <a:noFill/>
          </a:ln>
        </p:spPr>
        <p:txBody>
          <a:bodyPr lIns="90000" rIns="90000" tIns="46800" bIns="46800" anchor="t">
            <a:normAutofit/>
          </a:bodyPr>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tutoring space in your church</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ome a tutor</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irect a progra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rive a student to clas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babysitting service during the tutoring sess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ive a gift of reading material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et involved in your community’s education syste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 knowledgeable about your local board of educat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dvocate equal education for all</a:t>
            </a:r>
            <a:endParaRPr b="0" lang="en-US" sz="2400" spc="-1" strike="noStrike">
              <a:solidFill>
                <a:srgbClr val="dde3dc"/>
              </a:solidFill>
              <a:latin typeface="Trebuchet MS"/>
            </a:endParaRPr>
          </a:p>
        </p:txBody>
      </p:sp>
      <p:pic>
        <p:nvPicPr>
          <p:cNvPr id="158" name="" descr=""/>
          <p:cNvPicPr/>
          <p:nvPr/>
        </p:nvPicPr>
        <p:blipFill>
          <a:blip r:embed="rId2"/>
          <a:srcRect l="-155" t="-769" r="-155" b="-769"/>
          <a:stretch/>
        </p:blipFill>
        <p:spPr>
          <a:xfrm>
            <a:off x="3886200" y="5486400"/>
            <a:ext cx="2438280" cy="129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28640" y="457200"/>
            <a:ext cx="53341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Christian Literacy</a:t>
            </a:r>
            <a:endParaRPr b="1" lang="en-US" sz="4400" spc="-1" strike="noStrike">
              <a:solidFill>
                <a:srgbClr val="dde3dc"/>
              </a:solidFill>
              <a:latin typeface="Trebuchet MS"/>
            </a:endParaRPr>
          </a:p>
        </p:txBody>
      </p:sp>
      <p:sp>
        <p:nvSpPr>
          <p:cNvPr id="95" name="PlaceHolder 2"/>
          <p:cNvSpPr>
            <a:spLocks noGrp="1"/>
          </p:cNvSpPr>
          <p:nvPr>
            <p:ph/>
          </p:nvPr>
        </p:nvSpPr>
        <p:spPr>
          <a:xfrm>
            <a:off x="3428640" y="1828800"/>
            <a:ext cx="5715000" cy="5029200"/>
          </a:xfrm>
          <a:prstGeom prst="rect">
            <a:avLst/>
          </a:prstGeom>
          <a:noFill/>
          <a:ln w="0">
            <a:noFill/>
          </a:ln>
        </p:spPr>
        <p:txBody>
          <a:bodyPr lIns="90000" rIns="90000" tIns="46800" bIns="46800" anchor="t">
            <a:normAutofit/>
          </a:bodyPr>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tool for the evangelist—providing an ideal climate for conversion and church planting;</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Opens the pages of the Bible and other Christian literature to both non-Christians and growing converts;</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door into nations and parts of nations where other types of missions are unwelcom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Provides a satisfying activity for local Christians who are eager to help lift up their own people to a better lif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Expresses compassion, demonstrating that Christians are still in the Samaritan business.</a:t>
            </a:r>
            <a:endParaRPr b="0" lang="en-US" sz="2000" spc="-1" strike="noStrike">
              <a:solidFill>
                <a:srgbClr val="dde3dc"/>
              </a:solidFill>
              <a:latin typeface="Trebuchet MS"/>
            </a:endParaRPr>
          </a:p>
        </p:txBody>
      </p:sp>
      <p:pic>
        <p:nvPicPr>
          <p:cNvPr id="96" name="" descr=""/>
          <p:cNvPicPr/>
          <p:nvPr/>
        </p:nvPicPr>
        <p:blipFill>
          <a:blip r:embed="rId2"/>
          <a:srcRect l="-257" t="-659" r="-257" b="-659"/>
          <a:stretch/>
        </p:blipFill>
        <p:spPr>
          <a:xfrm>
            <a:off x="762120" y="1143000"/>
            <a:ext cx="220500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914040"/>
            <a:ext cx="7010280" cy="4800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de3dc"/>
                </a:solidFill>
                <a:latin typeface="Trebuchet MS"/>
              </a:rPr>
              <a:t>“</a:t>
            </a:r>
            <a:r>
              <a:rPr b="1" i="1" lang="en-US" sz="4400" spc="-1" strike="noStrike">
                <a:solidFill>
                  <a:srgbClr val="dde3dc"/>
                </a:solidFill>
                <a:latin typeface="Trebuchet MS"/>
              </a:rPr>
              <a:t>The days are coming,” declares the Sovereign Lord, “When I will send a famine through the land—not a famine of food or a thirst for water, but a famine of hearing the words of the Lord.”</a:t>
            </a:r>
            <a:br>
              <a:rPr sz="4400"/>
            </a:br>
            <a:br>
              <a:rPr sz="1600"/>
            </a:br>
            <a:r>
              <a:rPr b="1" lang="en-US" sz="4000" spc="-1" strike="noStrike">
                <a:solidFill>
                  <a:srgbClr val="dde3dc"/>
                </a:solidFill>
                <a:latin typeface="Trebuchet MS"/>
              </a:rPr>
              <a:t>Amos 8:11</a:t>
            </a:r>
            <a:endParaRPr b="1" lang="en-US" sz="4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457200"/>
            <a:ext cx="70866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99" name="PlaceHolder 2"/>
          <p:cNvSpPr>
            <a:spLocks noGrp="1"/>
          </p:cNvSpPr>
          <p:nvPr>
            <p:ph/>
          </p:nvPr>
        </p:nvSpPr>
        <p:spPr>
          <a:xfrm>
            <a:off x="2362320" y="2133720"/>
            <a:ext cx="6324480" cy="4419360"/>
          </a:xfrm>
          <a:prstGeom prst="rect">
            <a:avLst/>
          </a:prstGeom>
          <a:noFill/>
          <a:ln w="0">
            <a:noFill/>
          </a:ln>
        </p:spPr>
        <p:txBody>
          <a:bodyPr lIns="90000" rIns="90000" tIns="46800" bIns="4680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de3dc"/>
                </a:solidFill>
                <a:latin typeface="Trebuchet MS"/>
              </a:rPr>
              <a:t>“</a:t>
            </a:r>
            <a:r>
              <a:rPr b="0" lang="en-US" sz="3000" spc="-1" strike="noStrike">
                <a:solidFill>
                  <a:srgbClr val="dde3dc"/>
                </a:solidFill>
                <a:latin typeface="Trebuchet MS"/>
              </a:rPr>
              <a:t>Christ’s method alone will give true success in reaching the people. The Savior mingled with men as one who desired their good. He showed His sympathy for them, ministered to their needs, and won their confidence. Then He bade them, ‘Follow Me.’”</a:t>
            </a:r>
            <a:r>
              <a:rPr b="0" i="1" lang="en-US" sz="3000" spc="-1" strike="noStrike">
                <a:solidFill>
                  <a:srgbClr val="dde3dc"/>
                </a:solidFill>
                <a:latin typeface="Trebuchet MS"/>
              </a:rPr>
              <a:t> </a:t>
            </a:r>
            <a:endParaRPr b="0" lang="en-US" sz="3000" spc="-1" strike="noStrike">
              <a:solidFill>
                <a:srgbClr val="dde3dc"/>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E. G. White, </a:t>
            </a:r>
            <a:r>
              <a:rPr b="0" i="1" lang="en-US" sz="2400" spc="-1" strike="noStrike">
                <a:solidFill>
                  <a:srgbClr val="dde3dc"/>
                </a:solidFill>
                <a:latin typeface="Trebuchet MS"/>
              </a:rPr>
              <a:t>Ministry of Healing</a:t>
            </a:r>
            <a:r>
              <a:rPr b="0" lang="en-US" sz="2400" spc="-1" strike="noStrike">
                <a:solidFill>
                  <a:srgbClr val="dde3dc"/>
                </a:solidFill>
                <a:latin typeface="Trebuchet MS"/>
              </a:rPr>
              <a:t>, p. 143. </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80880"/>
            <a:ext cx="7086600" cy="14479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101" name="PlaceHolder 2"/>
          <p:cNvSpPr>
            <a:spLocks noGrp="1"/>
          </p:cNvSpPr>
          <p:nvPr>
            <p:ph type="subTitle"/>
          </p:nvPr>
        </p:nvSpPr>
        <p:spPr>
          <a:xfrm>
            <a:off x="2133360" y="1905120"/>
            <a:ext cx="7010280" cy="49528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Non-readers are captive, prisoners of their handicap. As we carry out Christ’s work, we too can say:</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t>
            </a:r>
            <a:r>
              <a:rPr b="0" lang="en-US" sz="2400" spc="-1" strike="noStrike">
                <a:solidFill>
                  <a:srgbClr val="dde3dc"/>
                </a:solidFill>
                <a:latin typeface="Trebuchet MS"/>
              </a:rPr>
              <a:t>The Spirit of the Lord is on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ause he has anointed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each good news to the poo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He has sent me to proclaim freedom for the prisoner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nd recovery of sight for the blind</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release the oppressed,</a:t>
            </a:r>
            <a:endParaRPr b="0" lang="en-US" sz="24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oclaim the year of the Lord’s favor.”</a:t>
            </a:r>
            <a:r>
              <a:rPr b="0" lang="en-US" sz="2800" spc="-1" strike="noStrike">
                <a:solidFill>
                  <a:srgbClr val="dde3dc"/>
                </a:solidFill>
                <a:latin typeface="Trebuchet MS"/>
              </a:rPr>
              <a:t> </a:t>
            </a:r>
            <a:endParaRPr b="0" lang="en-US" sz="28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e3dc"/>
                </a:solidFill>
                <a:latin typeface="Trebuchet MS"/>
              </a:rPr>
              <a:t>Isa. 61:1, 2 and Luke 4: 18, 19, NIV</a:t>
            </a:r>
            <a:r>
              <a:rPr b="0" lang="en-US" sz="2800" spc="-1" strike="noStrike">
                <a:solidFill>
                  <a:srgbClr val="dde3dc"/>
                </a:solidFill>
                <a:latin typeface="Trebuchet MS"/>
              </a:rPr>
              <a:t>.</a:t>
            </a:r>
            <a:endParaRPr b="0" lang="en-US" sz="2800" spc="-1" strike="noStrike">
              <a:solidFill>
                <a:srgbClr val="dde3dc"/>
              </a:solidFill>
              <a:latin typeface="Trebuchet MS"/>
            </a:endParaRPr>
          </a:p>
        </p:txBody>
      </p:sp>
      <p:pic>
        <p:nvPicPr>
          <p:cNvPr id="102" name="" descr=""/>
          <p:cNvPicPr/>
          <p:nvPr/>
        </p:nvPicPr>
        <p:blipFill>
          <a:blip r:embed="rId2"/>
          <a:stretch/>
        </p:blipFill>
        <p:spPr>
          <a:xfrm>
            <a:off x="457200" y="762120"/>
            <a:ext cx="140184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533160"/>
            <a:ext cx="807732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There are other ways in which Bible literacy is important to the church:</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04"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a:bodyPr>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gives church members a way to minister to others in a non-threatening way.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The non-Christian will know the tutor cares about them because of the help they are receiving.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strengthens the existing church if church members learn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Literacy programs can build non-political cooperation with governments because almost all governments want their people to be able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is something that can be done right in the local church. </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1066320"/>
            <a:ext cx="5562720" cy="1752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Women’s Ministries</a:t>
            </a:r>
            <a:endParaRPr b="1" lang="en-US" sz="4400" spc="-1" strike="noStrike">
              <a:solidFill>
                <a:srgbClr val="dde3dc"/>
              </a:solidFill>
              <a:latin typeface="Trebuchet MS"/>
            </a:endParaRPr>
          </a:p>
        </p:txBody>
      </p:sp>
      <p:sp>
        <p:nvSpPr>
          <p:cNvPr id="106" name="PlaceHolder 2"/>
          <p:cNvSpPr>
            <a:spLocks noGrp="1"/>
          </p:cNvSpPr>
          <p:nvPr>
            <p:ph type="subTitle"/>
          </p:nvPr>
        </p:nvSpPr>
        <p:spPr>
          <a:xfrm>
            <a:off x="4114440" y="3885840"/>
            <a:ext cx="441972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Of the one billion adults who cannot read, the majority are women.</a:t>
            </a:r>
            <a:endParaRPr b="0" lang="en-US" sz="3600" spc="-1" strike="noStrike">
              <a:solidFill>
                <a:srgbClr val="dde3dc"/>
              </a:solidFill>
              <a:latin typeface="Trebuchet MS"/>
            </a:endParaRPr>
          </a:p>
        </p:txBody>
      </p:sp>
      <p:graphicFrame>
        <p:nvGraphicFramePr>
          <p:cNvPr id="107" name=""/>
          <p:cNvGraphicFramePr/>
          <p:nvPr/>
        </p:nvGraphicFramePr>
        <p:xfrm>
          <a:off x="914400" y="2286000"/>
          <a:ext cx="2209680" cy="1441440"/>
        </p:xfrm>
        <a:graphic>
          <a:graphicData uri="http://schemas.openxmlformats.org/presentationml/2006/ole">
            <p:oleObj r:id="rId2" spid="">
              <p:embed/>
              <p:pic>
                <p:nvPicPr>
                  <p:cNvPr id="108" name="" descr=""/>
                  <p:cNvPicPr/>
                  <p:nvPr/>
                </p:nvPicPr>
                <p:blipFill>
                  <a:blip r:embed="rId3"/>
                  <a:stretch/>
                </p:blipFill>
                <p:spPr>
                  <a:xfrm>
                    <a:off x="914400" y="2286000"/>
                    <a:ext cx="2209680" cy="14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0" name="PlaceHolder 2"/>
          <p:cNvSpPr>
            <a:spLocks noGrp="1"/>
          </p:cNvSpPr>
          <p:nvPr>
            <p:ph/>
          </p:nvPr>
        </p:nvSpPr>
        <p:spPr>
          <a:xfrm>
            <a:off x="838080" y="1295280"/>
            <a:ext cx="7848720" cy="5029200"/>
          </a:xfrm>
          <a:prstGeom prst="rect">
            <a:avLst/>
          </a:prstGeom>
          <a:noFill/>
          <a:ln w="0">
            <a:noFill/>
          </a:ln>
        </p:spPr>
        <p:txBody>
          <a:bodyPr lIns="90000" rIns="90000" tIns="46800" bIns="46800" anchor="t">
            <a:normAutofit fontScale="99000"/>
          </a:bodyPr>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ower birthrates (smaller famil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with lower birthrates, the parents are better able to provide Christian education</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the children have improved educational abilit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maternal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ater marriag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overall improvement in family health</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infant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a greater sense of personal self-worth</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lanie Strahle</cp:lastModifiedBy>
  <dcterms:modified xsi:type="dcterms:W3CDTF">2006-04-13T15:39:53Z</dcterms:modified>
  <cp:revision>13</cp:revision>
  <dc:subject/>
  <dc:title>Slide 1</dc:title>
</cp:coreProperties>
</file>